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1314113" cy="8002588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B59-805D-43E7-9185-703C07A5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4840" y="320760"/>
            <a:ext cx="10185480" cy="133344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4840" y="1866600"/>
            <a:ext cx="10185480" cy="25185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4840" y="4624920"/>
            <a:ext cx="10185480" cy="25185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E90-ACC4-49AB-941E-E1DFC63F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4840" y="320760"/>
            <a:ext cx="10185480" cy="133344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4840" y="1866600"/>
            <a:ext cx="4970160" cy="25185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83760" y="1866600"/>
            <a:ext cx="4970160" cy="25185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4840" y="4624920"/>
            <a:ext cx="4970160" cy="25185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83760" y="4624920"/>
            <a:ext cx="4970160" cy="25185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2239-4C96-43CC-8BF1-00E3EF66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4840" y="320760"/>
            <a:ext cx="10185480" cy="133344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4840" y="1866600"/>
            <a:ext cx="3279600" cy="25185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8960" y="1866600"/>
            <a:ext cx="3279600" cy="25185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52720" y="1866600"/>
            <a:ext cx="3279600" cy="25185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840" y="4624920"/>
            <a:ext cx="3279600" cy="25185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8960" y="4624920"/>
            <a:ext cx="3279600" cy="25185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452720" y="4624920"/>
            <a:ext cx="3279600" cy="25185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665-AE2C-4EB5-ACB2-53C28D2B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4840" y="320760"/>
            <a:ext cx="10185480" cy="133344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4840" y="1866600"/>
            <a:ext cx="1018548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EF1C-294F-4747-B8F5-A83C865E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4840" y="320760"/>
            <a:ext cx="10185480" cy="133344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4840" y="1866600"/>
            <a:ext cx="10185480" cy="52801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C0D6-D51F-4AC9-8A90-A4756DDF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4840" y="320760"/>
            <a:ext cx="10185480" cy="133344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4840" y="1866600"/>
            <a:ext cx="4970160" cy="52801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83760" y="1866600"/>
            <a:ext cx="4970160" cy="52801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2EB-C20F-4CF4-8793-F95BB8A3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4840" y="320760"/>
            <a:ext cx="10185480" cy="133344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F12-010C-4042-9698-738CF51A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4840" y="320760"/>
            <a:ext cx="1018548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9736-421E-4028-B8AB-7519EA54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4840" y="320760"/>
            <a:ext cx="10185480" cy="133344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4840" y="1866600"/>
            <a:ext cx="4970160" cy="25185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83760" y="1866600"/>
            <a:ext cx="4970160" cy="52801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4840" y="4624920"/>
            <a:ext cx="4970160" cy="25185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437F-4865-42B5-A4F9-6B9143F9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4840" y="320760"/>
            <a:ext cx="10185480" cy="133344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4840" y="1866600"/>
            <a:ext cx="4970160" cy="52801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83760" y="1866600"/>
            <a:ext cx="4970160" cy="25185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83760" y="4624920"/>
            <a:ext cx="4970160" cy="25185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CF67-B5A7-44E7-A233-68593779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4840" y="320760"/>
            <a:ext cx="10185480" cy="133344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4840" y="1866600"/>
            <a:ext cx="4970160" cy="25185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83760" y="1866600"/>
            <a:ext cx="4970160" cy="25185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4840" y="4624920"/>
            <a:ext cx="10185480" cy="251856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D154-64DA-41EA-83F8-EE95CB41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4840" y="320760"/>
            <a:ext cx="10185480" cy="133344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4840" y="1866600"/>
            <a:ext cx="10185480" cy="52801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marL="412920" indent="-41292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5200" y="7286400"/>
            <a:ext cx="2641680" cy="5554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320" y="7286400"/>
            <a:ext cx="3584520" cy="5554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7286400"/>
            <a:ext cx="2641680" cy="5554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2DB9337E-C551-45DF-8985-13D13003C6D2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08000"/>
            <a:ext cx="11829960" cy="8109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13040" cy="1308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96200" y="3848040"/>
            <a:ext cx="16761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G Omega"/>
              </a:rPr>
              <a:t>Cazaux-Sanguin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11840" y="4840200"/>
            <a:ext cx="21319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G Omega"/>
              </a:rPr>
              <a:t>Petit étang de Biscarros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26240" y="5602320"/>
            <a:ext cx="1981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G Omega"/>
              </a:rPr>
              <a:t>Parentis-Biscarros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6880" y="7048440"/>
            <a:ext cx="9921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G Omega"/>
              </a:rPr>
              <a:t>Aureilh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463680" y="2705040"/>
            <a:ext cx="5902560" cy="411840"/>
          </a:xfrm>
          <a:prstGeom prst="rect">
            <a:avLst/>
          </a:prstGeom>
          <a:solidFill>
            <a:srgbClr val="80808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CG Omega"/>
              </a:rPr>
              <a:t>Séance de la CLE du 26 juin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9680" y="1336680"/>
            <a:ext cx="4726080" cy="960480"/>
          </a:xfrm>
          <a:prstGeom prst="rect">
            <a:avLst/>
          </a:prstGeom>
          <a:solidFill>
            <a:srgbClr val="80808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dddddd"/>
                </a:solidFill>
                <a:latin typeface="CG Omega"/>
              </a:rPr>
              <a:t>PROJET DE SAG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dddddd"/>
                </a:solidFill>
                <a:latin typeface="CG Omega"/>
              </a:rPr>
              <a:t>ETANGS LITTORAUX BORN ET BUC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400" y="3675240"/>
            <a:ext cx="41464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G Omega"/>
              </a:rPr>
              <a:t>Organisation et programme de la Phase d’élabor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2600" y="2844720"/>
            <a:ext cx="3017880" cy="18003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Tahoma"/>
              </a:rPr>
              <a:t>PHASE PRELIMIN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81560" y="2844720"/>
            <a:ext cx="3875040" cy="146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ABO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43800" y="2844720"/>
            <a:ext cx="3489480" cy="14652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MISE EN ŒUV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SUIV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3080" y="3898800"/>
            <a:ext cx="207468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jet de S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29400" y="3898800"/>
            <a:ext cx="153180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760" rIns="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rob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9960" y="6059520"/>
            <a:ext cx="2641680" cy="43308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760" rIns="86760" tIns="86760" bIns="8676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700" spc="-1" strike="noStrike">
                <a:solidFill>
                  <a:srgbClr val="b2b2b2"/>
                </a:solidFill>
                <a:latin typeface="Arial"/>
              </a:rPr>
              <a:t>Délimitation du périmèt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82640" y="6819840"/>
            <a:ext cx="2449440" cy="43308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760" rIns="86760" tIns="86760" bIns="8676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700" spc="-1" strike="noStrike">
                <a:solidFill>
                  <a:srgbClr val="b2b2b2"/>
                </a:solidFill>
                <a:latin typeface="Arial"/>
              </a:rPr>
              <a:t>Constitution de la C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9960" y="4307040"/>
            <a:ext cx="0" cy="2635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31840" y="2222640"/>
            <a:ext cx="851040" cy="55224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2900" spc="-1" strike="noStrike">
                <a:solidFill>
                  <a:srgbClr val="b2b2b2"/>
                </a:solidFill>
                <a:latin typeface="CG Omega"/>
              </a:rPr>
              <a:t>I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03920" y="2222640"/>
            <a:ext cx="8506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G Omega"/>
              </a:rPr>
              <a:t>II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771040" y="2222640"/>
            <a:ext cx="847800" cy="55224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III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31120" y="4876920"/>
            <a:ext cx="2640240" cy="82728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760" rIns="86760" tIns="86760" bIns="8676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"/>
              </a:rPr>
              <a:t>Programmes d’ac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"/>
              </a:rPr>
              <a:t>Tableau de bor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14920" y="4622760"/>
            <a:ext cx="3111480" cy="69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760" rIns="86760" tIns="86760" bIns="867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rrêté d’application du S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61200" y="4267080"/>
            <a:ext cx="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26400" y="4889520"/>
            <a:ext cx="37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87480" y="2490840"/>
            <a:ext cx="320508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9560" y="2490840"/>
            <a:ext cx="320508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7680" y="4610160"/>
            <a:ext cx="2639880" cy="121068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760" rIns="86760" tIns="86760" bIns="8676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700" spc="-1" strike="noStrike">
                <a:solidFill>
                  <a:srgbClr val="b2b2b2"/>
                </a:solidFill>
                <a:latin typeface="Arial"/>
              </a:rPr>
              <a:t>Consultation des collectivités et du comité de bassin sur le dossier argumentai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67000" y="5830920"/>
            <a:ext cx="0" cy="2635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71560" y="6515280"/>
            <a:ext cx="0" cy="266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8840" cy="749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128680" y="182520"/>
            <a:ext cx="8999640" cy="13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831960"/>
            <a:ext cx="11315880" cy="0"/>
          </a:xfrm>
          <a:prstGeom prst="line">
            <a:avLst/>
          </a:prstGeom>
          <a:ln w="1015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77920" y="182520"/>
            <a:ext cx="89996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en-US" sz="3300" spc="-1" strike="noStrike">
                <a:solidFill>
                  <a:srgbClr val="000099"/>
                </a:solidFill>
                <a:latin typeface="CG Omega"/>
              </a:rPr>
              <a:t>Elaboration du SAG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G Ome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3266" t="17525" r="15925" b="12382"/>
          <a:stretch/>
        </p:blipFill>
        <p:spPr>
          <a:xfrm>
            <a:off x="689040" y="3639960"/>
            <a:ext cx="5545080" cy="3883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3120" y="2187360"/>
            <a:ext cx="10153800" cy="10062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G Omega"/>
              </a:rPr>
              <a:t>Se fixer des objectifs généraux d’utilisation de mise en valeur, de protection </a:t>
            </a:r>
            <a:br>
              <a:rPr sz="2200"/>
            </a:br>
            <a:r>
              <a:rPr b="0" lang="en-US" sz="2200" spc="-1" strike="noStrike">
                <a:solidFill>
                  <a:srgbClr val="333399"/>
                </a:solidFill>
                <a:latin typeface="CG Omega"/>
              </a:rPr>
              <a:t>qualitative et quantitative de la ressource en eau superficielle et souterra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233760" y="3063600"/>
            <a:ext cx="4894200" cy="47545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p>
            <a:pPr lvl="1" marL="3808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2100" spc="-1" strike="noStrike" u="sng">
                <a:solidFill>
                  <a:srgbClr val="333399"/>
                </a:solidFill>
                <a:uFillTx/>
                <a:latin typeface="CG Omega"/>
              </a:rPr>
              <a:t>COMMENT 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80000"/>
              </a:lnSpc>
              <a:spcBef>
                <a:spcPts val="1312"/>
              </a:spcBef>
              <a:spcAft>
                <a:spcPts val="1049"/>
              </a:spcAft>
              <a:buClr>
                <a:srgbClr val="33339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G Omega"/>
              </a:rPr>
              <a:t>Associer tous les acteu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80000"/>
              </a:lnSpc>
              <a:spcBef>
                <a:spcPts val="788"/>
              </a:spcBef>
              <a:spcAft>
                <a:spcPts val="1049"/>
              </a:spcAft>
              <a:buClr>
                <a:srgbClr val="33339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G Omega"/>
              </a:rPr>
              <a:t>Comprendre le milieu et les phénomèn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80000"/>
              </a:lnSpc>
              <a:spcBef>
                <a:spcPts val="788"/>
              </a:spcBef>
              <a:spcAft>
                <a:spcPts val="1049"/>
              </a:spcAft>
              <a:buClr>
                <a:srgbClr val="33339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G Omega"/>
              </a:rPr>
              <a:t>Viser la non dégradation ou l’amélioration de l’état de l’eau et des usag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80000"/>
              </a:lnSpc>
              <a:spcBef>
                <a:spcPts val="788"/>
              </a:spcBef>
              <a:spcAft>
                <a:spcPts val="1049"/>
              </a:spcAft>
              <a:buClr>
                <a:srgbClr val="33339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G Omega"/>
              </a:rPr>
              <a:t>Étudier les solutions et les alternatives possibles et s’entendre sur les plus consensuel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80000"/>
              </a:lnSpc>
              <a:spcBef>
                <a:spcPts val="788"/>
              </a:spcBef>
              <a:spcAft>
                <a:spcPts val="1049"/>
              </a:spcAft>
              <a:buClr>
                <a:srgbClr val="33339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G Omega"/>
              </a:rPr>
              <a:t>Fixer des objectifs et les moyens pour les atteind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80000"/>
              </a:lnSpc>
              <a:spcBef>
                <a:spcPts val="788"/>
              </a:spcBef>
              <a:spcAft>
                <a:spcPts val="1049"/>
              </a:spcAft>
              <a:buClr>
                <a:srgbClr val="33339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G Omega"/>
              </a:rPr>
              <a:t>Formaliser le consens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5200" y="725400"/>
            <a:ext cx="10161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2760" y="7176960"/>
            <a:ext cx="101631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8840" cy="749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25640" y="182520"/>
            <a:ext cx="89996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en-US" sz="3300" spc="-1" strike="noStrike">
                <a:solidFill>
                  <a:srgbClr val="000099"/>
                </a:solidFill>
                <a:latin typeface="CG Omega"/>
              </a:rPr>
              <a:t>Elaboration du SAGE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31960"/>
            <a:ext cx="11315880" cy="0"/>
          </a:xfrm>
          <a:prstGeom prst="line">
            <a:avLst/>
          </a:prstGeom>
          <a:ln w="1015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81400" y="876240"/>
            <a:ext cx="77356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CG Omega"/>
              </a:rPr>
              <a:t>Rappel : objectif final et fil directeur :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1400" y="1593720"/>
            <a:ext cx="9288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G Omega"/>
              </a:rPr>
              <a:t>Définir une politique locale de l’eau : organiser et planifier l’avenir du bassin versa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5400000">
            <a:off x="-1671120" y="3479040"/>
            <a:ext cx="6521400" cy="2522520"/>
          </a:xfrm>
          <a:prstGeom prst="rightArrow">
            <a:avLst>
              <a:gd name="adj1" fmla="val 50509"/>
              <a:gd name="adj2" fmla="val 23232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46480" y="1492200"/>
            <a:ext cx="3816360" cy="16538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TAT INITIAL ET PERSP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tat des lie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gno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endances d’é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6480" y="2987640"/>
            <a:ext cx="4967280" cy="659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ENARII  / DEFINITION DES OBJECTIFS CHOIX DE LA STRATEG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8920" y="6016680"/>
            <a:ext cx="978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" rIns="21600" tIns="21600" bIns="21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46480" y="3801960"/>
            <a:ext cx="3816360" cy="802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GD &amp; REG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APPORT ENVIRONNE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6480" y="6699240"/>
            <a:ext cx="3240000" cy="659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PPROBATION DU SAGE PAR LE PREF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8840" cy="749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831960"/>
            <a:ext cx="11315880" cy="0"/>
          </a:xfrm>
          <a:prstGeom prst="line">
            <a:avLst/>
          </a:prstGeom>
          <a:ln w="1015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28680" y="76320"/>
            <a:ext cx="89996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en-US" sz="3300" spc="-1" strike="noStrike">
                <a:solidFill>
                  <a:srgbClr val="000099"/>
                </a:solidFill>
                <a:latin typeface="CG Omega"/>
              </a:rPr>
              <a:t>Elaboration du SAGE</a:t>
            </a:r>
            <a:r>
              <a:rPr b="1" i="1" lang="en-US" sz="2800" spc="-1" strike="noStrike">
                <a:solidFill>
                  <a:srgbClr val="ffffff"/>
                </a:solidFill>
                <a:latin typeface="CG Ome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23200" y="876240"/>
            <a:ext cx="449388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CG Omega"/>
              </a:rPr>
              <a:t>Etapes et Calendrier prévisionnel :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05400" y="4051440"/>
            <a:ext cx="29530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vote de la 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-320760" y="3130560"/>
            <a:ext cx="38163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ans et de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160" y="1476360"/>
            <a:ext cx="151632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Juin 200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57280" y="4691160"/>
            <a:ext cx="2087640" cy="1913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O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 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160" y="4792680"/>
            <a:ext cx="151632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3400" y="6808680"/>
            <a:ext cx="151308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99080" y="6834240"/>
            <a:ext cx="54738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Arrêté préfectoral d’application du 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33760" y="4721400"/>
            <a:ext cx="636588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Consultation sur le 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(Collectivités, Chambres Consulaires, Comité de Bassin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Evaluation environnemen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Enquête Pub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Approbation du SAGE par la 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(après modifications éventuelles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543600" y="5506200"/>
            <a:ext cx="20872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325520"/>
            <a:ext cx="11315880" cy="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6160" y="152280"/>
            <a:ext cx="2415960" cy="881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86480" y="1332000"/>
            <a:ext cx="5430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en-US" sz="2900" spc="-1" strike="noStrike">
                <a:solidFill>
                  <a:srgbClr val="333399"/>
                </a:solidFill>
                <a:latin typeface="CG Omega"/>
              </a:rPr>
              <a:t>Comment, les appuis de la CLE ?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01760" y="476280"/>
            <a:ext cx="886464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r">
              <a:lnSpc>
                <a:spcPct val="115000"/>
              </a:lnSpc>
              <a:spcBef>
                <a:spcPts val="2313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en-US" sz="3700" spc="-1" strike="noStrike">
                <a:solidFill>
                  <a:srgbClr val="333399"/>
                </a:solidFill>
                <a:latin typeface="CG Omega"/>
              </a:rPr>
              <a:t>Elaboration du SAG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9040" y="2992320"/>
            <a:ext cx="10009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41760" y="2765520"/>
            <a:ext cx="2233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CG Omega"/>
              </a:rPr>
              <a:t>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G Omega"/>
              </a:rPr>
              <a:t>Débats Réflex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G Omega"/>
              </a:rPr>
              <a:t>DECIS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G Omega"/>
              </a:rPr>
              <a:t>CADRAG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45400" y="2305080"/>
            <a:ext cx="3359160" cy="40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CG Omega"/>
              </a:rPr>
              <a:t>Commissions géograph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G Omega"/>
              </a:rPr>
              <a:t>Consultation et information éla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G Omega"/>
              </a:rPr>
              <a:t>Echange avec les acteurs de terr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G Omega"/>
              </a:rPr>
              <a:t>et le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7280" y="2266920"/>
            <a:ext cx="3282840" cy="4250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CG Omega"/>
              </a:rPr>
              <a:t>Commissions thémat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G Omega"/>
              </a:rPr>
              <a:t>Groupes de travail pluridisciplin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G Omega"/>
              </a:rPr>
              <a:t>Echanges et réflex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G Omega"/>
              </a:rPr>
              <a:t>Elaborent des propo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33760" y="2670120"/>
            <a:ext cx="2449800" cy="23385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70120" y="3639960"/>
            <a:ext cx="865440" cy="360720"/>
          </a:xfrm>
          <a:prstGeom prst="leftRightArrow">
            <a:avLst>
              <a:gd name="adj1" fmla="val 50000"/>
              <a:gd name="adj2" fmla="val 47762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81760" y="3639960"/>
            <a:ext cx="865080" cy="360720"/>
          </a:xfrm>
          <a:prstGeom prst="leftRightArrow">
            <a:avLst>
              <a:gd name="adj1" fmla="val 50000"/>
              <a:gd name="adj2" fmla="val 47742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9760" y="5310360"/>
            <a:ext cx="2089080" cy="1102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CG Omega"/>
              </a:rPr>
              <a:t>Burea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G Omega"/>
              </a:rPr>
              <a:t>Assiste 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G Omega"/>
              </a:rPr>
              <a:t>prépare les 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657760" y="5008680"/>
            <a:ext cx="0" cy="287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633760" y="5800680"/>
            <a:ext cx="6119640" cy="1152720"/>
          </a:xfrm>
          <a:prstGeom prst="rect">
            <a:avLst/>
          </a:prstGeom>
        </p:spPr>
        <p:txBody>
          <a:bodyPr wrap="none" fromWordArt="1" lIns="96480" rIns="96480" tIns="48240" bIns="48240" anchor="t" anchorCtr="1">
            <a:prstTxWarp prst="textArchDown">
              <a:avLst>
                <a:gd name="adj" fmla="val 8632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333399"/>
                </a:solidFill>
                <a:latin typeface="CG Omega"/>
              </a:rPr>
              <a:t>Cellule d’animation</a:t>
            </a:r>
            <a:endParaRPr b="0" i="1" lang="en-US" sz="1600" spc="1" strike="noStrike">
              <a:ln w="9360">
                <a:solidFill>
                  <a:srgbClr val="009999"/>
                </a:solidFill>
                <a:miter/>
              </a:ln>
              <a:solidFill>
                <a:srgbClr val="333399"/>
              </a:solidFill>
              <a:latin typeface="CG Omega"/>
              <a:ea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333399"/>
                </a:solidFill>
                <a:latin typeface="CG Omega"/>
              </a:rPr>
              <a:t>assure la liaison, élabore, propose</a:t>
            </a:r>
            <a:endParaRPr b="0" i="1" lang="en-US" sz="1600" spc="1" strike="noStrike">
              <a:ln w="9360">
                <a:solidFill>
                  <a:srgbClr val="009999"/>
                </a:solidFill>
                <a:miter/>
              </a:ln>
              <a:solidFill>
                <a:srgbClr val="333399"/>
              </a:solidFill>
              <a:latin typeface="CG Omega"/>
              <a:ea typeface="CG Ome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325520"/>
            <a:ext cx="11315880" cy="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6160" y="152280"/>
            <a:ext cx="2415960" cy="881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451240" y="399960"/>
            <a:ext cx="886464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r">
              <a:lnSpc>
                <a:spcPct val="115000"/>
              </a:lnSpc>
              <a:spcBef>
                <a:spcPts val="2313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en-US" sz="3700" spc="-1" strike="noStrike">
                <a:solidFill>
                  <a:srgbClr val="333399"/>
                </a:solidFill>
                <a:latin typeface="CG Omega"/>
              </a:rPr>
              <a:t>Elaboration du SAG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4680" y="2562120"/>
            <a:ext cx="4217760" cy="54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CG Omega"/>
              </a:rPr>
              <a:t>3 Commissions géograph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G Omeg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G Omega"/>
              </a:rPr>
              <a:t>Bassin versant du lac de Cazaux-Sangu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G Omega"/>
              </a:rPr>
              <a:t>Bassin versant du lac de Parentis-Biscarro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G Omega"/>
              </a:rPr>
              <a:t>Bassin versant de l’étang d’Aureil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28680" y="1697040"/>
            <a:ext cx="763272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CG Omega"/>
              </a:rPr>
              <a:t>PROPOSITION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73760" y="2598840"/>
            <a:ext cx="504180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CG Omega"/>
              </a:rPr>
              <a:t>4 Commissions thématiq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G Omeg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G Omega"/>
              </a:rPr>
              <a:t>Gestion quantitative et           gestion hydrau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G Omeg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G Omega"/>
              </a:rPr>
              <a:t>Qualité et gestion de l’eau,           des milieux aquatiques                    et des zones hum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G Omega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CG Omega"/>
              </a:rPr>
              <a:t>Usages, milieux et res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G Omega"/>
              </a:rPr>
              <a:t>Eau et aménagement du terri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57760" y="2776680"/>
            <a:ext cx="0" cy="4608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325520"/>
            <a:ext cx="11315880" cy="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6160" y="152280"/>
            <a:ext cx="2415960" cy="881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324160" y="399960"/>
            <a:ext cx="886464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r">
              <a:lnSpc>
                <a:spcPct val="115000"/>
              </a:lnSpc>
              <a:spcBef>
                <a:spcPts val="2313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en-US" sz="3700" spc="-1" strike="noStrike">
                <a:solidFill>
                  <a:srgbClr val="333399"/>
                </a:solidFill>
                <a:latin typeface="CG Omega"/>
              </a:rPr>
              <a:t>Elaboration du SAG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5760" y="1623960"/>
            <a:ext cx="76615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en-US" sz="2900" spc="-1" strike="noStrike">
                <a:solidFill>
                  <a:srgbClr val="333399"/>
                </a:solidFill>
                <a:latin typeface="CG Omega"/>
              </a:rPr>
              <a:t>Réalisation de l’Etat des Lieux- Diagnostic :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77760" y="2847960"/>
            <a:ext cx="96490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pPr lvl="1" marL="369720" indent="-190440">
              <a:lnSpc>
                <a:spcPct val="15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Base de réflexion : dossier argumentaire de septembr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9720" indent="-190440">
              <a:lnSpc>
                <a:spcPct val="15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Étude qualité des cours d’eau bientôt finali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9720" indent="-190440">
              <a:lnSpc>
                <a:spcPct val="15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Bilan des données disponibles par grandes thématiques en 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9720" indent="-190440">
              <a:lnSpc>
                <a:spcPct val="15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onnées manquantes et études complémentaires à analy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9720" indent="-190440">
              <a:lnSpc>
                <a:spcPct val="15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es Ateliers « Connaissances » en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4936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1900" spc="-1" strike="noStrike" u="sng">
                <a:solidFill>
                  <a:srgbClr val="333399"/>
                </a:solidFill>
                <a:uFillTx/>
                <a:latin typeface="Arial"/>
              </a:rPr>
              <a:t>Exemple</a:t>
            </a:r>
            <a:r>
              <a:rPr b="0" lang="fr-FR" sz="1900" spc="-1" strike="noStrike">
                <a:solidFill>
                  <a:srgbClr val="333399"/>
                </a:solidFill>
                <a:latin typeface="Arial"/>
              </a:rPr>
              <a:t> : Géologie et hydrogéologie du bassin versant / nappes du Plio -quaternai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325520"/>
            <a:ext cx="11315880" cy="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6160" y="152280"/>
            <a:ext cx="2415960" cy="881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324160" y="399960"/>
            <a:ext cx="886464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r">
              <a:lnSpc>
                <a:spcPct val="115000"/>
              </a:lnSpc>
              <a:spcBef>
                <a:spcPts val="2313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en-US" sz="3700" spc="-1" strike="noStrike">
                <a:solidFill>
                  <a:srgbClr val="333399"/>
                </a:solidFill>
                <a:latin typeface="CG Omega"/>
              </a:rPr>
              <a:t>Elaboration du SAG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5760" y="1623960"/>
            <a:ext cx="76615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en-US" sz="2900" spc="-1" strike="noStrike">
                <a:solidFill>
                  <a:srgbClr val="333399"/>
                </a:solidFill>
                <a:latin typeface="CG Omega"/>
              </a:rPr>
              <a:t>Préfiguration de la CLE n°2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77760" y="2847960"/>
            <a:ext cx="96490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pPr lvl="1" marL="380880" indent="-190440">
              <a:lnSpc>
                <a:spcPct val="15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éation du Bur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15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éation des commissions géographiques et théma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15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nuaire des a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15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alyse des manques de données et réflexion sur les études complémentaires à m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15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gramme de travail pour la réalisation de l’état des li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15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te :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19 ou 26 septe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15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eu :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inventaire des salles du bassin vers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>
              <a:lnSpc>
                <a:spcPct val="15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959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851200" y="0"/>
            <a:ext cx="40528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G Omega"/>
              </a:rPr>
              <a:t>Aujourd’hui …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802480" y="-320760"/>
            <a:ext cx="5940000" cy="12001320"/>
            <a:chOff x="5802480" y="-320760"/>
            <a:chExt cx="5940000" cy="1200132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5802480" y="-320760"/>
              <a:ext cx="5395680" cy="1200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802480" y="4726440"/>
              <a:ext cx="5940000" cy="695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794120" y="4937040"/>
            <a:ext cx="5848560" cy="29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G Omega"/>
              </a:rPr>
              <a:t>Actualités du </a:t>
            </a:r>
            <a:r>
              <a:rPr b="0" lang="en-US" sz="3500" spc="-1" strike="noStrike">
                <a:solidFill>
                  <a:srgbClr val="000000"/>
                </a:solidFill>
                <a:latin typeface="CG Omega"/>
              </a:rPr>
              <a:t>SAGE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G Omega"/>
              </a:rPr>
              <a:t>Étangs Littoraux Born et Bu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G Omega"/>
              </a:rPr>
              <a:t>sur </a:t>
            </a:r>
            <a:r>
              <a:rPr b="1" lang="en-US" sz="2900" spc="-1" strike="noStrike">
                <a:solidFill>
                  <a:srgbClr val="000000"/>
                </a:solidFill>
                <a:latin typeface="CG Omega"/>
              </a:rPr>
              <a:t>http://www.gesteau.f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89040" y="1913040"/>
            <a:ext cx="502920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G Omega"/>
              </a:rPr>
              <a:t>A VENIR 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G Omega"/>
              </a:rPr>
              <a:t>Automne 2008…. CLE n° 2 organisation de l’état des lieux diagnost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G Omega"/>
              </a:rPr>
              <a:t>Automne 2009….validation du diagnost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37040" y="76032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G Omega"/>
              </a:rPr>
              <a:t>Phase d’élaboration engag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G Omega"/>
              </a:rPr>
              <a:t>Attentes fortes des acteurs</a:t>
            </a:r>
            <a:r>
              <a:rPr b="1" i="1" lang="en-US" sz="2100" spc="-1" strike="noStrike">
                <a:solidFill>
                  <a:srgbClr val="000000"/>
                </a:solidFill>
                <a:latin typeface="CG Omeg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08:06:34Z</dcterms:created>
  <dc:creator>DEFAULT</dc:creator>
  <dc:description/>
  <dc:language>en-US</dc:language>
  <cp:lastModifiedBy>Delphine PELOUIN</cp:lastModifiedBy>
  <dcterms:modified xsi:type="dcterms:W3CDTF">2008-06-26T10:54:09Z</dcterms:modified>
  <cp:revision>431</cp:revision>
  <dc:subject/>
  <dc:title>Présentation PowerPoint</dc:title>
</cp:coreProperties>
</file>