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5731200" y="647712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Sainte Hélène – 12 décembre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MF"/>
          <p:cNvPicPr/>
          <p:nvPr/>
        </p:nvPicPr>
        <p:blipFill>
          <a:blip r:embed="rId2"/>
          <a:stretch/>
        </p:blipFill>
        <p:spPr>
          <a:xfrm>
            <a:off x="560520" y="5908680"/>
            <a:ext cx="566640" cy="79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DFCIAQ"/>
          <p:cNvPicPr/>
          <p:nvPr/>
        </p:nvPicPr>
        <p:blipFill>
          <a:blip r:embed="rId3"/>
          <a:stretch/>
        </p:blipFill>
        <p:spPr>
          <a:xfrm>
            <a:off x="1171440" y="5916600"/>
            <a:ext cx="708120" cy="76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CRPF_NOUVEAU_2014"/>
          <p:cNvPicPr/>
          <p:nvPr/>
        </p:nvPicPr>
        <p:blipFill>
          <a:blip r:embed="rId4"/>
          <a:stretch/>
        </p:blipFill>
        <p:spPr>
          <a:xfrm>
            <a:off x="0" y="5911920"/>
            <a:ext cx="5349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712800" y="725400"/>
            <a:ext cx="78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LES PEUPLEMENTS DE PIN MARITIME ET L’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949400" y="2220840"/>
            <a:ext cx="5229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Eau et production forest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Alimentation hydrique de l’ar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Caractéristiques des sols sableux land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Contraintes hydriques en forêt land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Défense des Forêts Contre l’Incen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757080" y="0"/>
            <a:ext cx="8150400" cy="6500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916920" y="2667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Sau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24760" y="2412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5300 ha de forê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95920" y="357192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n lande humide en mm/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9760" y="3952800"/>
          <a:ext cx="5414760" cy="2683080"/>
        </p:xfrm>
        <a:graphic>
          <a:graphicData uri="http://schemas.openxmlformats.org/drawingml/2006/table">
            <a:tbl>
              <a:tblPr/>
              <a:tblGrid>
                <a:gridCol w="2512800"/>
                <a:gridCol w="1168560"/>
                <a:gridCol w="982800"/>
                <a:gridCol w="7506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ye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écipi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anspiration P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ranspiration sous b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poration du 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r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in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ntées de la nap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58"/>
          <p:cNvSpPr/>
          <p:nvPr/>
        </p:nvSpPr>
        <p:spPr>
          <a:xfrm>
            <a:off x="5765760" y="458316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8 550 000 m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9"/>
          <p:cNvSpPr/>
          <p:nvPr/>
        </p:nvSpPr>
        <p:spPr>
          <a:xfrm>
            <a:off x="5918400" y="4925880"/>
            <a:ext cx="21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480 000 m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0"/>
          <p:cNvSpPr/>
          <p:nvPr/>
        </p:nvSpPr>
        <p:spPr>
          <a:xfrm>
            <a:off x="2392200" y="658980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ource INRA. D. Loust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915840" y="-311040"/>
            <a:ext cx="7689960" cy="1549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7432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965160" y="138240"/>
            <a:ext cx="759132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 RISQUE INCENDIE BIEN PRÉ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50"/>
          <p:cNvGraphicFramePr/>
          <p:nvPr/>
        </p:nvGraphicFramePr>
        <p:xfrm>
          <a:off x="0" y="4127400"/>
          <a:ext cx="5072040" cy="215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Object 205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27400"/>
                    <a:ext cx="5072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0" y="6280200"/>
            <a:ext cx="1400040" cy="58104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9"/>
          <p:cNvSpPr/>
          <p:nvPr/>
        </p:nvSpPr>
        <p:spPr>
          <a:xfrm>
            <a:off x="1638360" y="6318360"/>
            <a:ext cx="72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RISQUE ACCRU EN PÉRIODE DE SÈCH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127080" y="44280"/>
            <a:ext cx="8885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DES RÉSERVES EN EAU ESSENTIELLES A LA LUTTE INCEN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0" t="0" r="0" b="6164"/>
          <a:stretch/>
        </p:blipFill>
        <p:spPr>
          <a:xfrm>
            <a:off x="0" y="105264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1943280" y="601200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POINTS D’EAU SONT ALIMENTES PAR LA N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11520" y="38088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Pourquoi les pins ont besoin d’ea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00000" y="990720"/>
            <a:ext cx="8015400" cy="32936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La photosynthè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 CO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+ 6 H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12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+ 6 O</a:t>
            </a:r>
            <a:r>
              <a:rPr b="1" lang="fr-FR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800 g d’eau pour 1 g de C fix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1"/>
          <p:cNvSpPr/>
          <p:nvPr/>
        </p:nvSpPr>
        <p:spPr>
          <a:xfrm>
            <a:off x="4724280" y="2108160"/>
            <a:ext cx="482760" cy="596880"/>
          </a:xfrm>
          <a:prstGeom prst="downArrow">
            <a:avLst>
              <a:gd name="adj1" fmla="val 50000"/>
              <a:gd name="adj2" fmla="val 3091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2"/>
          <p:cNvSpPr/>
          <p:nvPr/>
        </p:nvSpPr>
        <p:spPr>
          <a:xfrm>
            <a:off x="5448240" y="2133720"/>
            <a:ext cx="457200" cy="457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4"/>
          <p:cNvSpPr/>
          <p:nvPr/>
        </p:nvSpPr>
        <p:spPr>
          <a:xfrm>
            <a:off x="1693440" y="426240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Pour 1 m3 de bois, 250 t d’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700280" y="5087880"/>
            <a:ext cx="61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Un pin de 35 ans transpire 8 t d’eau/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ahoma"/>
              </a:rPr>
              <a:t>Soit environ 50 à 80 l d’eau/jour en é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84640" y="152280"/>
            <a:ext cx="30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Circulation de l’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Au niveau de l’ar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ycle hydrologique en forêt"/>
          <p:cNvPicPr/>
          <p:nvPr/>
        </p:nvPicPr>
        <p:blipFill>
          <a:blip r:embed="rId1"/>
          <a:stretch/>
        </p:blipFill>
        <p:spPr>
          <a:xfrm>
            <a:off x="4000680" y="76320"/>
            <a:ext cx="4800600" cy="6400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101520" y="1028880"/>
            <a:ext cx="3786120" cy="22712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entrée par les rac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irculation dans les vaisseaux du tr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utilisation dans les feui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90% du volume est rejeté dans l’atmosphère par la </a:t>
            </a:r>
            <a:r>
              <a:rPr b="1" lang="fr-FR" sz="1800" spc="-1" strike="noStrike" u="sng">
                <a:solidFill>
                  <a:srgbClr val="333399"/>
                </a:solidFill>
                <a:uFillTx/>
                <a:latin typeface="Arial"/>
              </a:rPr>
              <a:t>transpiration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680" y="3375000"/>
            <a:ext cx="3760920" cy="17398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l ’intensité de la transpiration est fonction de la </a:t>
            </a: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demande climatique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: intensité du rayonnement solaire, température, vent, humidité de l ’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25280" y="5203800"/>
            <a:ext cx="37609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L’eau accessible dans le sol est LE facteur limi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90960" y="655308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’après Aussenac 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40120" y="20304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Trouver de l’eau dans les sols sableux lan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708120"/>
            <a:ext cx="780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s presque exclusivement sableux (98%) formés d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bles éoliens modelés par les glaciations du quater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s podzoliques hypercarencés de formation récente, caractérisés par des horizons indurés « alio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istence d’une nappe phréatique superficielle soumise à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ariations intra et interan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profilpédo"/>
          <p:cNvPicPr/>
          <p:nvPr/>
        </p:nvPicPr>
        <p:blipFill>
          <a:blip r:embed="rId1"/>
          <a:stretch/>
        </p:blipFill>
        <p:spPr>
          <a:xfrm>
            <a:off x="158760" y="3289320"/>
            <a:ext cx="8985240" cy="2797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7" name="Arc 7"/>
          <p:cNvSpPr/>
          <p:nvPr/>
        </p:nvSpPr>
        <p:spPr>
          <a:xfrm rot="19446000">
            <a:off x="2660760" y="4811760"/>
            <a:ext cx="3713040" cy="1727280"/>
          </a:xfrm>
          <a:custGeom>
            <a:avLst/>
            <a:gdLst/>
            <a:ahLst/>
            <a:rect l="l" t="t" r="r" b="b"/>
            <a:pathLst>
              <a:path fill="none" w="16408" h="21600">
                <a:moveTo>
                  <a:pt x="-1" y="0"/>
                </a:moveTo>
                <a:cubicBezTo>
                  <a:pt x="6309" y="0"/>
                  <a:pt x="12304" y="2759"/>
                  <a:pt x="16407" y="7552"/>
                </a:cubicBezTo>
              </a:path>
              <a:path stroke="0" w="16408" h="21600">
                <a:moveTo>
                  <a:pt x="-1" y="0"/>
                </a:moveTo>
                <a:cubicBezTo>
                  <a:pt x="6309" y="0"/>
                  <a:pt x="12304" y="2759"/>
                  <a:pt x="16407" y="755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1800" y="562464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Nappe à la c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9"/>
          <p:cNvSpPr/>
          <p:nvPr/>
        </p:nvSpPr>
        <p:spPr>
          <a:xfrm rot="19440000">
            <a:off x="3931920" y="5046840"/>
            <a:ext cx="3389400" cy="1990440"/>
          </a:xfrm>
          <a:custGeom>
            <a:avLst/>
            <a:gdLst/>
            <a:ahLst/>
            <a:rect l="l" t="t" r="r" b="b"/>
            <a:pathLst>
              <a:path fill="none" w="15471" h="21508">
                <a:moveTo>
                  <a:pt x="1993" y="0"/>
                </a:moveTo>
                <a:cubicBezTo>
                  <a:pt x="7108" y="474"/>
                  <a:pt x="11886" y="2755"/>
                  <a:pt x="15471" y="6434"/>
                </a:cubicBezTo>
              </a:path>
              <a:path stroke="0" w="15471" h="21508">
                <a:moveTo>
                  <a:pt x="1993" y="0"/>
                </a:moveTo>
                <a:cubicBezTo>
                  <a:pt x="7108" y="474"/>
                  <a:pt x="11886" y="2755"/>
                  <a:pt x="15471" y="6434"/>
                </a:cubicBezTo>
                <a:lnTo>
                  <a:pt x="0" y="21508"/>
                </a:lnTo>
                <a:lnTo>
                  <a:pt x="1993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239000" y="59799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Nappe à l‘ét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667560" y="4826160"/>
            <a:ext cx="685800" cy="20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464600" y="4836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288920" y="4722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A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368440" y="63482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’après Gelpe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15840" y="7632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Caractéristiques des sols sableux lan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01600" y="59688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ois grands types de sol dont la répartition est marquée par la topographie et la profondeur de la nap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types de landes"/>
          <p:cNvPicPr/>
          <p:nvPr/>
        </p:nvPicPr>
        <p:blipFill>
          <a:blip r:embed="rId1">
            <a:grayscl/>
            <a:lum contrast="-18000"/>
          </a:blip>
          <a:srcRect l="5905" t="20400" r="7564" b="18623"/>
          <a:stretch/>
        </p:blipFill>
        <p:spPr>
          <a:xfrm>
            <a:off x="127080" y="3276720"/>
            <a:ext cx="6248160" cy="3214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8" name="Picture 6" descr="lande humide "/>
          <p:cNvPicPr/>
          <p:nvPr/>
        </p:nvPicPr>
        <p:blipFill>
          <a:blip r:embed="rId2"/>
          <a:stretch/>
        </p:blipFill>
        <p:spPr>
          <a:xfrm>
            <a:off x="722160" y="1295280"/>
            <a:ext cx="2148120" cy="143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ande mésophile"/>
          <p:cNvPicPr/>
          <p:nvPr/>
        </p:nvPicPr>
        <p:blipFill>
          <a:blip r:embed="rId3"/>
          <a:stretch/>
        </p:blipFill>
        <p:spPr>
          <a:xfrm>
            <a:off x="3160800" y="1295280"/>
            <a:ext cx="2147760" cy="143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ande sèche"/>
          <p:cNvPicPr/>
          <p:nvPr/>
        </p:nvPicPr>
        <p:blipFill>
          <a:blip r:embed="rId4"/>
          <a:stretch/>
        </p:blipFill>
        <p:spPr>
          <a:xfrm>
            <a:off x="5675400" y="1295280"/>
            <a:ext cx="2147760" cy="1438560"/>
          </a:xfrm>
          <a:prstGeom prst="rect">
            <a:avLst/>
          </a:prstGeom>
          <a:ln w="0">
            <a:noFill/>
          </a:ln>
        </p:spPr>
      </p:pic>
      <p:sp>
        <p:nvSpPr>
          <p:cNvPr id="71" name="Line 9"/>
          <p:cNvSpPr/>
          <p:nvPr/>
        </p:nvSpPr>
        <p:spPr>
          <a:xfrm>
            <a:off x="226044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408924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492768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641600" y="280044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de hum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393000" y="278748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de mésop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270760" y="27874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de sè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451560" y="3168720"/>
            <a:ext cx="2006640" cy="3501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l drainé (1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s de ruiss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rainage moy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1,5 – 2,5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uisseau p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cais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rainage 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3 m et 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uisseau encais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2154240" y="22334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11-13 m3/ha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5748480" y="222084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6 - 8 m3/ha/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913680" y="763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Enracinement du pin mari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1"/>
          <a:stretch/>
        </p:blipFill>
        <p:spPr>
          <a:xfrm>
            <a:off x="162000" y="900000"/>
            <a:ext cx="8820000" cy="368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6"/>
          <p:cNvSpPr/>
          <p:nvPr/>
        </p:nvSpPr>
        <p:spPr>
          <a:xfrm>
            <a:off x="4670280" y="4646520"/>
            <a:ext cx="428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spection bloquée par la nappe ou l’al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87200" y="4722840"/>
            <a:ext cx="42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spection profonde du 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2367000" y="63482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ource INRA – Danjon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33"/>
          <p:cNvGraphicFramePr/>
          <p:nvPr/>
        </p:nvGraphicFramePr>
        <p:xfrm>
          <a:off x="573120" y="998640"/>
          <a:ext cx="774396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998640"/>
                    <a:ext cx="77439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2"/>
          <p:cNvSpPr/>
          <p:nvPr/>
        </p:nvSpPr>
        <p:spPr>
          <a:xfrm>
            <a:off x="368280" y="0"/>
            <a:ext cx="78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luctuation de la profondeur de la nappe en année humide (2000) et année sèche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3527280" y="5599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3077280" y="5764320"/>
            <a:ext cx="28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onnées ADES – Le Temple (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-11160" y="1620720"/>
          <a:ext cx="774396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1620720"/>
                    <a:ext cx="77439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368280" y="25560"/>
            <a:ext cx="78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Fluctuation de la profondeur de la nappe et interaction avec la croissance des ar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28680" y="3683160"/>
            <a:ext cx="7264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616160" y="2779560"/>
            <a:ext cx="16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Arial"/>
              </a:rPr>
              <a:t>Profo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Arial"/>
              </a:rPr>
              <a:t>Enrac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Arial"/>
              </a:rPr>
              <a:t>Lande hu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Arial"/>
              </a:rPr>
              <a:t>50 – 9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544680" y="3073320"/>
            <a:ext cx="6972120" cy="1296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379440" y="4140360"/>
            <a:ext cx="650232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704000" y="4113360"/>
            <a:ext cx="12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ff"/>
                </a:solidFill>
                <a:latin typeface="Arial"/>
              </a:rPr>
              <a:t>Limite d’acc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ff"/>
                </a:solidFill>
                <a:latin typeface="Arial"/>
              </a:rPr>
              <a:t>à la ressource en 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235240" y="1193760"/>
            <a:ext cx="0" cy="81288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645000" y="1181160"/>
            <a:ext cx="0" cy="81288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5587920" y="1219320"/>
            <a:ext cx="0" cy="8125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346840" y="120348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46600" y="1050840"/>
            <a:ext cx="159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use estiv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ess hyd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700600" y="105084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onstitution ré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use hiver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527280" y="5599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341800" y="564840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99"/>
                </a:solidFill>
                <a:latin typeface="Arial"/>
              </a:rPr>
              <a:t>En 2005, croissance quasi nulle en diamè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368080" y="6348240"/>
            <a:ext cx="24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onnées ADES – Le Te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5840" y="38088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Caractéristiques des sols sableux lan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69880" y="1133640"/>
            <a:ext cx="8319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sols composés à 60 - 70 % de sable grossier (200 - 500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don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69880" y="2257560"/>
            <a:ext cx="83199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 ’eau s ’infiltre rapidement (50 à 60 cm/heure en moyenne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rofondé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éserve utile est réduit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, de l ’ordre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70 mm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iffusion capillaire est faible, de l’ordre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0 - 3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736560" y="4429080"/>
            <a:ext cx="79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Sensibilité forte à l’abaissement de la nappe, notamment en 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928880" y="5248440"/>
            <a:ext cx="7088040" cy="1313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isque de perte de production à long terme (cycle de production de 30 à 50 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isque de dépérissement et de mortalité sur les stations les plus sen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4:35:55Z</dcterms:created>
  <dc:creator>AMELIE</dc:creator>
  <dc:description/>
  <dc:language>en-US</dc:language>
  <cp:lastModifiedBy>Bruno de Grissac</cp:lastModifiedBy>
  <cp:lastPrinted>2014-12-10T11:48:40Z</cp:lastPrinted>
  <dcterms:modified xsi:type="dcterms:W3CDTF">2014-12-11T08:27:38Z</dcterms:modified>
  <cp:revision>15</cp:revision>
  <dc:subject/>
  <dc:title>Présentation PowerPoint</dc:title>
</cp:coreProperties>
</file>