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6.jpeg" ContentType="image/jpeg"/>
  <Override PartName="/ppt/media/image22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89964-0D92-4FCC-AF04-4A6EF6F82B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2D2EB6-4451-47E0-AE9B-884F6779C6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1D5-E72A-4949-B489-0472D626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B95-B043-445B-859C-1CC65C41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D02-1AB0-467E-96DF-FFCCB79F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1FD-E06C-4D55-890D-DAD957AE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372-E716-4084-AD26-438829EB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C60-78F3-4BBA-83B2-0A2DC75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ACD-8D7B-43BF-903E-E2A53EB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957-43F9-4E08-86A5-E891CD1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F68-95F2-46CD-91C8-D63F6E5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66C-58AE-448C-B35C-7BFD2044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980-2DE9-46A9-BC93-898B900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07-445C-4F9C-B9C7-083EF2F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598-BC36-41F4-BA50-B2A38A1DE6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Réunion inter-CL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SAGE Nappes profondes de Gironde et SAGE Lacs médoc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SAGE Nappes profo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Pourquoi, avec quelle ressource et où substituer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Sainte Hélène – 12 décembr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 SMEGREG"/>
          <p:cNvPicPr/>
          <p:nvPr/>
        </p:nvPicPr>
        <p:blipFill>
          <a:blip r:embed="rId1"/>
          <a:stretch/>
        </p:blipFill>
        <p:spPr>
          <a:xfrm>
            <a:off x="0" y="5589720"/>
            <a:ext cx="1090440" cy="1268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187280" y="616572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Syndicat mixte d'études et de gestion de la ressource en eau du département de la Girond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ous-titre 2"/>
          <p:cNvSpPr/>
          <p:nvPr/>
        </p:nvSpPr>
        <p:spPr>
          <a:xfrm>
            <a:off x="237960" y="1700280"/>
            <a:ext cx="86569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Le gisement d'économies d'eau techniquement et économiquement mobilisable étant insuffisant pour atteindre les objectifs du SAGE, des substitutions de ressources sont indispens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132000" y="5414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Substitution de ressour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7" name="Groupe 11269"/>
          <p:cNvGrpSpPr/>
          <p:nvPr/>
        </p:nvGrpSpPr>
        <p:grpSpPr>
          <a:xfrm>
            <a:off x="2529000" y="2862000"/>
            <a:ext cx="5656320" cy="3827880"/>
            <a:chOff x="2529000" y="2862000"/>
            <a:chExt cx="5656320" cy="3827880"/>
          </a:xfrm>
        </p:grpSpPr>
        <p:sp>
          <p:nvSpPr>
            <p:cNvPr id="128" name="Rectangle 6"/>
            <p:cNvSpPr/>
            <p:nvPr/>
          </p:nvSpPr>
          <p:spPr>
            <a:xfrm>
              <a:off x="7055280" y="3078000"/>
              <a:ext cx="360360" cy="36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6983640" y="2862000"/>
              <a:ext cx="28728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7271280" y="2862000"/>
              <a:ext cx="217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V="1">
              <a:off x="5038920" y="3509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V="1">
              <a:off x="5615280" y="3509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H="1" flipV="1">
              <a:off x="4462560" y="2862000"/>
              <a:ext cx="5760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 flipV="1">
              <a:off x="5615280" y="2862000"/>
              <a:ext cx="5760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 flipH="1">
              <a:off x="4462560" y="2862360"/>
              <a:ext cx="172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7415640" y="4662360"/>
              <a:ext cx="57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7199640" y="4446360"/>
              <a:ext cx="215640" cy="10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3167280" y="4662360"/>
              <a:ext cx="57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959280" y="4662360"/>
              <a:ext cx="3240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0" name="Rectangle 18"/>
            <p:cNvSpPr/>
            <p:nvPr/>
          </p:nvSpPr>
          <p:spPr>
            <a:xfrm>
              <a:off x="3743640" y="4446360"/>
              <a:ext cx="215640" cy="10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1" name="Freeform 19"/>
            <p:cNvSpPr/>
            <p:nvPr/>
          </p:nvSpPr>
          <p:spPr>
            <a:xfrm>
              <a:off x="3814920" y="4159080"/>
              <a:ext cx="1439640" cy="1223640"/>
            </a:xfrm>
            <a:custGeom>
              <a:avLst/>
              <a:gdLst/>
              <a:ahLst/>
              <a:rect l="l" t="t" r="r" b="b"/>
              <a:pathLst>
                <a:path w="907" h="771">
                  <a:moveTo>
                    <a:pt x="0" y="771"/>
                  </a:moveTo>
                  <a:lnTo>
                    <a:pt x="0" y="0"/>
                  </a:lnTo>
                  <a:lnTo>
                    <a:pt x="907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 flipH="1">
              <a:off x="5470920" y="4159080"/>
              <a:ext cx="1800000" cy="1223640"/>
            </a:xfrm>
            <a:custGeom>
              <a:avLst/>
              <a:gdLst/>
              <a:ahLst/>
              <a:rect l="l" t="t" r="r" b="b"/>
              <a:pathLst>
                <a:path w="907" h="771">
                  <a:moveTo>
                    <a:pt x="0" y="771"/>
                  </a:moveTo>
                  <a:lnTo>
                    <a:pt x="0" y="0"/>
                  </a:lnTo>
                  <a:lnTo>
                    <a:pt x="9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 flipV="1">
              <a:off x="5328000" y="3367080"/>
              <a:ext cx="1655640" cy="1150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4" name="Ellipse 11264"/>
            <p:cNvSpPr/>
            <p:nvPr/>
          </p:nvSpPr>
          <p:spPr>
            <a:xfrm>
              <a:off x="6285240" y="3942360"/>
              <a:ext cx="1900080" cy="1899720"/>
            </a:xfrm>
            <a:prstGeom prst="ellipse">
              <a:avLst/>
            </a:prstGeom>
            <a:noFill/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5" name="Ellipse 36"/>
            <p:cNvSpPr/>
            <p:nvPr/>
          </p:nvSpPr>
          <p:spPr>
            <a:xfrm>
              <a:off x="2864880" y="4000320"/>
              <a:ext cx="1900080" cy="18997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6" name="Sous-titre 2"/>
            <p:cNvSpPr/>
            <p:nvPr/>
          </p:nvSpPr>
          <p:spPr>
            <a:xfrm>
              <a:off x="2529000" y="5911200"/>
              <a:ext cx="31536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Trebuchet MS"/>
                </a:rPr>
                <a:t>Unité de gestion </a:t>
              </a:r>
              <a:r>
                <a:rPr b="1" lang="fr-FR" sz="1800" spc="-1" strike="noStrike" u="sng">
                  <a:solidFill>
                    <a:srgbClr val="ff0000"/>
                  </a:solidFill>
                  <a:uFillTx/>
                  <a:latin typeface="Trebuchet MS"/>
                </a:rPr>
                <a:t>déficitaire</a:t>
              </a:r>
              <a:r>
                <a:rPr b="0" lang="fr-FR" sz="1800" spc="-1" strike="noStrike">
                  <a:solidFill>
                    <a:srgbClr val="ff0000"/>
                  </a:solidFill>
                  <a:latin typeface="Trebuchet MS"/>
                </a:rPr>
                <a:t> ou </a:t>
              </a:r>
              <a:r>
                <a:rPr b="1" lang="fr-FR" sz="1800" spc="-1" strike="noStrike" u="sng">
                  <a:solidFill>
                    <a:srgbClr val="ff0000"/>
                  </a:solidFill>
                  <a:uFillTx/>
                  <a:latin typeface="Trebuchet MS"/>
                </a:rPr>
                <a:t>zone à risque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47" name="Sous-titre 2"/>
          <p:cNvSpPr/>
          <p:nvPr/>
        </p:nvSpPr>
        <p:spPr>
          <a:xfrm>
            <a:off x="6985080" y="5754600"/>
            <a:ext cx="2076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rebuchet MS"/>
              </a:rPr>
              <a:t>Unité de gestion non déficitai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8" name="Groupe 125"/>
          <p:cNvGrpSpPr/>
          <p:nvPr/>
        </p:nvGrpSpPr>
        <p:grpSpPr>
          <a:xfrm>
            <a:off x="0" y="2862000"/>
            <a:ext cx="9061560" cy="3827880"/>
            <a:chOff x="0" y="2862000"/>
            <a:chExt cx="9061560" cy="3827880"/>
          </a:xfrm>
        </p:grpSpPr>
        <p:sp>
          <p:nvSpPr>
            <p:cNvPr id="149" name="Sous-titre 2"/>
            <p:cNvSpPr/>
            <p:nvPr/>
          </p:nvSpPr>
          <p:spPr>
            <a:xfrm>
              <a:off x="6984720" y="5754960"/>
              <a:ext cx="20768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3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b050"/>
                  </a:solidFill>
                  <a:latin typeface="Trebuchet MS"/>
                </a:rPr>
                <a:t>Unité de gestion non déficitaire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815640" y="4159080"/>
              <a:ext cx="1440000" cy="1223640"/>
            </a:xfrm>
            <a:custGeom>
              <a:avLst/>
              <a:gdLst/>
              <a:ahLst/>
              <a:rect l="l" t="t" r="r" b="b"/>
              <a:pathLst>
                <a:path w="907" h="771">
                  <a:moveTo>
                    <a:pt x="0" y="771"/>
                  </a:moveTo>
                  <a:lnTo>
                    <a:pt x="0" y="0"/>
                  </a:lnTo>
                  <a:lnTo>
                    <a:pt x="907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7056360" y="3078000"/>
              <a:ext cx="360360" cy="36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6984720" y="2862000"/>
              <a:ext cx="28728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 flipH="1" flipV="1">
              <a:off x="7272360" y="2862000"/>
              <a:ext cx="217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 flipV="1">
              <a:off x="5040000" y="3509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V="1">
              <a:off x="5616360" y="3509640"/>
              <a:ext cx="0" cy="11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 flipH="1" flipV="1">
              <a:off x="4463640" y="2862000"/>
              <a:ext cx="5760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 flipV="1">
              <a:off x="5616360" y="2862000"/>
              <a:ext cx="5760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>
              <a:off x="4463640" y="2862360"/>
              <a:ext cx="172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7416720" y="4662360"/>
              <a:ext cx="57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200720" y="4446360"/>
              <a:ext cx="215640" cy="10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168000" y="4662360"/>
              <a:ext cx="576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3960360" y="4662360"/>
              <a:ext cx="324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3744360" y="4446360"/>
              <a:ext cx="215640" cy="10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 flipH="1">
              <a:off x="5470920" y="4159080"/>
              <a:ext cx="1800360" cy="1223640"/>
            </a:xfrm>
            <a:custGeom>
              <a:avLst/>
              <a:gdLst/>
              <a:ahLst/>
              <a:rect l="l" t="t" r="r" b="b"/>
              <a:pathLst>
                <a:path w="907" h="771">
                  <a:moveTo>
                    <a:pt x="0" y="771"/>
                  </a:moveTo>
                  <a:lnTo>
                    <a:pt x="0" y="0"/>
                  </a:lnTo>
                  <a:lnTo>
                    <a:pt x="90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 flipV="1">
              <a:off x="5328720" y="3367080"/>
              <a:ext cx="1655640" cy="1150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Line 23"/>
            <p:cNvSpPr/>
            <p:nvPr/>
          </p:nvSpPr>
          <p:spPr>
            <a:xfrm flipH="1">
              <a:off x="3312360" y="4518000"/>
              <a:ext cx="1079280" cy="865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Line 24"/>
            <p:cNvSpPr/>
            <p:nvPr/>
          </p:nvSpPr>
          <p:spPr>
            <a:xfrm>
              <a:off x="3384000" y="4518000"/>
              <a:ext cx="1008000" cy="865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Ellipse 145"/>
            <p:cNvSpPr/>
            <p:nvPr/>
          </p:nvSpPr>
          <p:spPr>
            <a:xfrm>
              <a:off x="6286320" y="3942360"/>
              <a:ext cx="1900080" cy="1899720"/>
            </a:xfrm>
            <a:prstGeom prst="ellipse">
              <a:avLst/>
            </a:prstGeom>
            <a:noFill/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9" name="Ellipse 146"/>
            <p:cNvSpPr/>
            <p:nvPr/>
          </p:nvSpPr>
          <p:spPr>
            <a:xfrm>
              <a:off x="2865600" y="4000320"/>
              <a:ext cx="1900080" cy="18997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70" name="Groupe 147"/>
            <p:cNvGrpSpPr/>
            <p:nvPr/>
          </p:nvGrpSpPr>
          <p:grpSpPr>
            <a:xfrm>
              <a:off x="0" y="3151080"/>
              <a:ext cx="5184360" cy="3359880"/>
              <a:chOff x="0" y="3151080"/>
              <a:chExt cx="5184360" cy="3359880"/>
            </a:xfrm>
          </p:grpSpPr>
          <p:sp>
            <p:nvSpPr>
              <p:cNvPr id="171" name="Line 3"/>
              <p:cNvSpPr/>
              <p:nvPr/>
            </p:nvSpPr>
            <p:spPr>
              <a:xfrm>
                <a:off x="862920" y="4662360"/>
                <a:ext cx="576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72" name="Line 4"/>
              <p:cNvSpPr/>
              <p:nvPr/>
            </p:nvSpPr>
            <p:spPr>
              <a:xfrm>
                <a:off x="1654920" y="4662360"/>
                <a:ext cx="576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73" name="Rectangle 5"/>
              <p:cNvSpPr/>
              <p:nvPr/>
            </p:nvSpPr>
            <p:spPr>
              <a:xfrm>
                <a:off x="1438920" y="4446360"/>
                <a:ext cx="215640" cy="100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74" name="Freeform 21"/>
              <p:cNvSpPr/>
              <p:nvPr/>
            </p:nvSpPr>
            <p:spPr>
              <a:xfrm>
                <a:off x="1512000" y="3151080"/>
                <a:ext cx="3672360" cy="2158920"/>
              </a:xfrm>
              <a:custGeom>
                <a:avLst/>
                <a:gdLst/>
                <a:ahLst/>
                <a:rect l="l" t="t" r="r" b="b"/>
                <a:pathLst>
                  <a:path w="907" h="771">
                    <a:moveTo>
                      <a:pt x="0" y="771"/>
                    </a:moveTo>
                    <a:lnTo>
                      <a:pt x="0" y="0"/>
                    </a:lnTo>
                    <a:lnTo>
                      <a:pt x="907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75" name="Ellipse 153"/>
              <p:cNvSpPr/>
              <p:nvPr/>
            </p:nvSpPr>
            <p:spPr>
              <a:xfrm>
                <a:off x="596880" y="3942360"/>
                <a:ext cx="1900080" cy="1899720"/>
              </a:xfrm>
              <a:prstGeom prst="ellipse">
                <a:avLst/>
              </a:prstGeom>
              <a:noFill/>
              <a:ln w="50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76" name="Sous-titre 2"/>
              <p:cNvSpPr/>
              <p:nvPr/>
            </p:nvSpPr>
            <p:spPr>
              <a:xfrm>
                <a:off x="0" y="5732280"/>
                <a:ext cx="21967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6000"/>
              </a:bodyPr>
              <a:p>
                <a:pPr algn="ctr">
                  <a:lnSpc>
                    <a:spcPct val="13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b050"/>
                    </a:solidFill>
                    <a:latin typeface="Trebuchet MS"/>
                  </a:rPr>
                  <a:t>Non déficitaire ou hors SAGE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77" name="Sous-titre 2"/>
            <p:cNvSpPr/>
            <p:nvPr/>
          </p:nvSpPr>
          <p:spPr>
            <a:xfrm>
              <a:off x="2529720" y="5911200"/>
              <a:ext cx="3153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Trebuchet MS"/>
                </a:rPr>
                <a:t>Unité de gestion </a:t>
              </a:r>
              <a:r>
                <a:rPr b="1" lang="fr-FR" sz="1800" spc="-1" strike="noStrike" u="sng">
                  <a:solidFill>
                    <a:srgbClr val="ff0000"/>
                  </a:solidFill>
                  <a:uFillTx/>
                  <a:latin typeface="Trebuchet MS"/>
                </a:rPr>
                <a:t>déficitaire</a:t>
              </a:r>
              <a:r>
                <a:rPr b="0" lang="fr-FR" sz="1800" spc="-1" strike="noStrike">
                  <a:solidFill>
                    <a:srgbClr val="ff0000"/>
                  </a:solidFill>
                  <a:latin typeface="Trebuchet MS"/>
                </a:rPr>
                <a:t> ou </a:t>
              </a:r>
              <a:r>
                <a:rPr b="1" lang="fr-FR" sz="1800" spc="-1" strike="noStrike" u="sng">
                  <a:solidFill>
                    <a:srgbClr val="ff0000"/>
                  </a:solidFill>
                  <a:uFillTx/>
                  <a:latin typeface="Trebuchet MS"/>
                </a:rPr>
                <a:t>zone à risque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178" name="Image 13" descr=""/>
          <p:cNvPicPr/>
          <p:nvPr/>
        </p:nvPicPr>
        <p:blipFill>
          <a:blip r:embed="rId1"/>
          <a:stretch/>
        </p:blipFill>
        <p:spPr>
          <a:xfrm>
            <a:off x="1546200" y="0"/>
            <a:ext cx="1378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711680" y="1844640"/>
            <a:ext cx="43466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ill Sans MT"/>
              </a:rPr>
              <a:t>Critères pris en considération pour sélectionner les projet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nature de la ressour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vulnérabilité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qualité de l'eau (traitement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productivité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localisation, distance au beso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impacts de l'exploitation sur le milie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évolutivité de la capacité de p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182520" indent="-182520">
              <a:lnSpc>
                <a:spcPct val="130000"/>
              </a:lnSpc>
              <a:buClr>
                <a:srgbClr val="333399"/>
              </a:buClr>
              <a:buFont typeface="Gill Sans MT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et élimination sur la base de critères jugés rédhibitoires</a:t>
            </a:r>
            <a:r>
              <a:rPr b="0" lang="fr-FR" sz="2000" spc="-1" strike="noStrike">
                <a:solidFill>
                  <a:srgbClr val="333399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132000" y="115920"/>
            <a:ext cx="6012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333399"/>
                </a:solidFill>
                <a:latin typeface="Trebuchet MS"/>
              </a:rPr>
              <a:t>Quelles ressources pour substituer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rebuchet MS"/>
              </a:rPr>
              <a:t>Les ressources étudiées et les critères de séle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28520" y="1844640"/>
            <a:ext cx="429264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ill Sans MT"/>
              </a:rPr>
              <a:t>Les 11 principales ressources étudiée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L'Isle à Galg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Nappe alluviale de l'Is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Le Ciron à Barsa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Oligocène libre de l'Entre deux M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Eau géotherma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Nappe alluviale de la Garonne en rive gauch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Nappe alluviale de la Garonne en rive droi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Oligocène de Sainte Hélè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Eocène et Oligocène Nord Médo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Cénomanien du sud Giron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Eau de Garonne, ré-infiltration et repri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2" name="Image 13" descr=""/>
          <p:cNvPicPr/>
          <p:nvPr/>
        </p:nvPicPr>
        <p:blipFill>
          <a:blip r:embed="rId1"/>
          <a:stretch/>
        </p:blipFill>
        <p:spPr>
          <a:xfrm>
            <a:off x="1546200" y="0"/>
            <a:ext cx="1378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132000" y="115920"/>
            <a:ext cx="601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333399"/>
                </a:solidFill>
                <a:latin typeface="Trebuchet MS"/>
              </a:rPr>
              <a:t>Quelles ressources pour substituer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rebuchet MS"/>
              </a:rPr>
              <a:t>Tableau comparati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85672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e 6"/>
          <p:cNvGrpSpPr/>
          <p:nvPr/>
        </p:nvGrpSpPr>
        <p:grpSpPr>
          <a:xfrm>
            <a:off x="6489720" y="4105440"/>
            <a:ext cx="825480" cy="1782720"/>
            <a:chOff x="6489720" y="4105440"/>
            <a:chExt cx="825480" cy="1782720"/>
          </a:xfrm>
        </p:grpSpPr>
        <p:grpSp>
          <p:nvGrpSpPr>
            <p:cNvPr id="186" name="Groupe 5"/>
            <p:cNvGrpSpPr/>
            <p:nvPr/>
          </p:nvGrpSpPr>
          <p:grpSpPr>
            <a:xfrm>
              <a:off x="6489720" y="4105440"/>
              <a:ext cx="825480" cy="428400"/>
              <a:chOff x="6489720" y="4105440"/>
              <a:chExt cx="825480" cy="428400"/>
            </a:xfrm>
          </p:grpSpPr>
          <p:sp>
            <p:nvSpPr>
              <p:cNvPr id="187" name="Rectangle 4"/>
              <p:cNvSpPr/>
              <p:nvPr/>
            </p:nvSpPr>
            <p:spPr>
              <a:xfrm>
                <a:off x="6489720" y="4105440"/>
                <a:ext cx="825480" cy="4284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8" name="ZoneTexte 3"/>
              <p:cNvSpPr/>
              <p:nvPr/>
            </p:nvSpPr>
            <p:spPr>
              <a:xfrm>
                <a:off x="6570360" y="4204440"/>
                <a:ext cx="682200" cy="246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Gill Sans MT"/>
                  </a:rPr>
                  <a:t>5 -&gt; 10</a:t>
                </a:r>
                <a:endParaRPr b="0" lang="en-US" sz="10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89" name="Groupe 8"/>
            <p:cNvGrpSpPr/>
            <p:nvPr/>
          </p:nvGrpSpPr>
          <p:grpSpPr>
            <a:xfrm>
              <a:off x="6489720" y="5459760"/>
              <a:ext cx="825480" cy="428400"/>
              <a:chOff x="6489720" y="5459760"/>
              <a:chExt cx="825480" cy="428400"/>
            </a:xfrm>
          </p:grpSpPr>
          <p:sp>
            <p:nvSpPr>
              <p:cNvPr id="190" name="Rectangle 9"/>
              <p:cNvSpPr/>
              <p:nvPr/>
            </p:nvSpPr>
            <p:spPr>
              <a:xfrm>
                <a:off x="6489720" y="5459760"/>
                <a:ext cx="825480" cy="4284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1" name="ZoneTexte 10"/>
              <p:cNvSpPr/>
              <p:nvPr/>
            </p:nvSpPr>
            <p:spPr>
              <a:xfrm>
                <a:off x="6570360" y="5558760"/>
                <a:ext cx="682200" cy="246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Gill Sans MT"/>
                  </a:rPr>
                  <a:t>notable</a:t>
                </a:r>
                <a:endParaRPr b="0" lang="en-US" sz="10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ous-titre 2"/>
          <p:cNvSpPr/>
          <p:nvPr/>
        </p:nvSpPr>
        <p:spPr>
          <a:xfrm>
            <a:off x="4689360" y="1803240"/>
            <a:ext cx="4256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La multiplication de projets locaux de substitutions constituerait une aberration économique avec un très fort impact sur le coût d'accès à l'eau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132000" y="3254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Substitutions de ressource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aspects économ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Image 13" descr=""/>
          <p:cNvPicPr/>
          <p:nvPr/>
        </p:nvPicPr>
        <p:blipFill>
          <a:blip r:embed="rId1"/>
          <a:stretch/>
        </p:blipFill>
        <p:spPr>
          <a:xfrm>
            <a:off x="1546200" y="0"/>
            <a:ext cx="1378080" cy="1604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89000" y="1773360"/>
            <a:ext cx="4500360" cy="2325600"/>
          </a:xfrm>
          <a:prstGeom prst="rect">
            <a:avLst/>
          </a:prstGeom>
          <a:ln w="0">
            <a:noFill/>
          </a:ln>
        </p:spPr>
      </p:pic>
      <p:sp>
        <p:nvSpPr>
          <p:cNvPr id="196" name="Sous-titre 2"/>
          <p:cNvSpPr/>
          <p:nvPr/>
        </p:nvSpPr>
        <p:spPr>
          <a:xfrm>
            <a:off x="441360" y="4167360"/>
            <a:ext cx="538308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Pour la dizaine de projets envisageables, il apparaît que combiner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la concentration des substitutions sur l'agglomération bordelaise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l'utilisation des capacités de transfert du réseau de la CUB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constitue la meilleure solution du point de vue économ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5840280" y="2970360"/>
            <a:ext cx="3105360" cy="3760560"/>
            <a:chOff x="5840280" y="2970360"/>
            <a:chExt cx="3105360" cy="3760560"/>
          </a:xfrm>
        </p:grpSpPr>
        <p:pic>
          <p:nvPicPr>
            <p:cNvPr id="198" name="Picture 2" descr="SUbstituions généralisées"/>
            <p:cNvPicPr/>
            <p:nvPr/>
          </p:nvPicPr>
          <p:blipFill>
            <a:blip r:embed="rId3"/>
            <a:stretch/>
          </p:blipFill>
          <p:spPr>
            <a:xfrm>
              <a:off x="5840280" y="2970360"/>
              <a:ext cx="3105360" cy="37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" descr="SUbstituions concentrées"/>
            <p:cNvPicPr/>
            <p:nvPr/>
          </p:nvPicPr>
          <p:blipFill>
            <a:blip r:embed="rId4"/>
            <a:stretch/>
          </p:blipFill>
          <p:spPr>
            <a:xfrm>
              <a:off x="5840280" y="2970360"/>
              <a:ext cx="3105360" cy="37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Substituions réfléchies"/>
            <p:cNvPicPr/>
            <p:nvPr/>
          </p:nvPicPr>
          <p:blipFill>
            <a:blip r:embed="rId5"/>
            <a:stretch/>
          </p:blipFill>
          <p:spPr>
            <a:xfrm>
              <a:off x="5840280" y="2970360"/>
              <a:ext cx="3105360" cy="376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3"/>
          <p:cNvGrpSpPr/>
          <p:nvPr/>
        </p:nvGrpSpPr>
        <p:grpSpPr>
          <a:xfrm>
            <a:off x="4859280" y="1628640"/>
            <a:ext cx="4162320" cy="5040360"/>
            <a:chOff x="4859280" y="1628640"/>
            <a:chExt cx="4162320" cy="5040360"/>
          </a:xfrm>
        </p:grpSpPr>
        <p:pic>
          <p:nvPicPr>
            <p:cNvPr id="202" name="Picture 2" descr="SUbstituions généralisées"/>
            <p:cNvPicPr/>
            <p:nvPr/>
          </p:nvPicPr>
          <p:blipFill>
            <a:blip r:embed="rId1"/>
            <a:stretch/>
          </p:blipFill>
          <p:spPr>
            <a:xfrm>
              <a:off x="4859280" y="1628640"/>
              <a:ext cx="41623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3" descr="SUbstituions concentrées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41623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" descr="Substituions réfléchies"/>
            <p:cNvPicPr/>
            <p:nvPr/>
          </p:nvPicPr>
          <p:blipFill>
            <a:blip r:embed="rId3"/>
            <a:stretch/>
          </p:blipFill>
          <p:spPr>
            <a:xfrm>
              <a:off x="4859280" y="1628640"/>
              <a:ext cx="4162320" cy="504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ous-titre 2"/>
          <p:cNvSpPr/>
          <p:nvPr/>
        </p:nvSpPr>
        <p:spPr>
          <a:xfrm>
            <a:off x="108000" y="1619280"/>
            <a:ext cx="48956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Trois grands projet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capacité 10 à 12 M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/an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40 000 000 € HT d’investissement*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1 000 000 €/an de fonctionnement*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coût du 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1800" spc="-1" strike="noStrike">
                <a:solidFill>
                  <a:srgbClr val="333399"/>
                </a:solidFill>
                <a:latin typeface="Trebuchet MS"/>
              </a:rPr>
              <a:t> livré de l'ordre de 0,40 €*/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20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132000" y="2858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Substitutions de ressource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les projets structur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57080" y="3614760"/>
            <a:ext cx="38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Oligocène Sainte Hélène (10 Mm</a:t>
            </a:r>
            <a:r>
              <a:rPr b="0" lang="fr-FR" sz="14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/an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020600" y="4621320"/>
            <a:ext cx="35514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Cénomanien sud Gironde (12 Mm</a:t>
            </a:r>
            <a:r>
              <a:rPr b="0" lang="fr-FR" sz="14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/an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* estimations 2009 à actualis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2320" y="4148280"/>
            <a:ext cx="455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Eau de Garonne, ré-infiltration et reprise (12 Mm</a:t>
            </a:r>
            <a:r>
              <a:rPr b="0" lang="fr-FR" sz="1400" spc="-1" strike="noStrike" baseline="30000">
                <a:solidFill>
                  <a:srgbClr val="333399"/>
                </a:solidFill>
                <a:latin typeface="Trebuchet MS"/>
              </a:rPr>
              <a:t>3</a:t>
            </a:r>
            <a:r>
              <a:rPr b="0" lang="fr-FR" sz="1400" spc="-1" strike="noStrike">
                <a:solidFill>
                  <a:srgbClr val="333399"/>
                </a:solidFill>
                <a:latin typeface="Trebuchet MS"/>
              </a:rPr>
              <a:t>/an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548240" y="4775040"/>
            <a:ext cx="1752480" cy="5256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548240" y="3817800"/>
            <a:ext cx="1103400" cy="1875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548240" y="4300560"/>
            <a:ext cx="2544840" cy="6411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3" name="Image 13" descr=""/>
          <p:cNvPicPr/>
          <p:nvPr/>
        </p:nvPicPr>
        <p:blipFill>
          <a:blip r:embed="rId4"/>
          <a:stretch/>
        </p:blipFill>
        <p:spPr>
          <a:xfrm>
            <a:off x="1546200" y="0"/>
            <a:ext cx="1378080" cy="160488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e 4"/>
          <p:cNvGrpSpPr/>
          <p:nvPr/>
        </p:nvGrpSpPr>
        <p:grpSpPr>
          <a:xfrm>
            <a:off x="193680" y="3513240"/>
            <a:ext cx="4378320" cy="3049200"/>
            <a:chOff x="193680" y="3513240"/>
            <a:chExt cx="4378320" cy="3049200"/>
          </a:xfrm>
        </p:grpSpPr>
        <p:sp>
          <p:nvSpPr>
            <p:cNvPr id="215" name="Ellipse 2"/>
            <p:cNvSpPr/>
            <p:nvPr/>
          </p:nvSpPr>
          <p:spPr>
            <a:xfrm>
              <a:off x="1128960" y="3513240"/>
              <a:ext cx="3443040" cy="540000"/>
            </a:xfrm>
            <a:prstGeom prst="ellipse">
              <a:avLst/>
            </a:prstGeom>
            <a:noFill/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6" name="ZoneTexte 1"/>
            <p:cNvSpPr/>
            <p:nvPr/>
          </p:nvSpPr>
          <p:spPr>
            <a:xfrm>
              <a:off x="193680" y="5096880"/>
              <a:ext cx="4378320" cy="1465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2060"/>
                  </a:solidFill>
                  <a:latin typeface="Gill Sans MT"/>
                </a:rPr>
                <a:t>Porté par la CUB pour toute la Zone centre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2060"/>
                  </a:solidFill>
                  <a:latin typeface="Gill Sans MT"/>
                </a:rPr>
                <a:t>(le volume de surexploitation dépasse largement les prélèvements de la CUB dans les unités de gestion déficitaires)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217" name="Connecteur droit avec flèche 3"/>
            <p:cNvCxnSpPr>
              <a:stCxn id="216" idx="0"/>
              <a:endCxn id="215" idx="4"/>
            </p:cNvCxnSpPr>
            <p:nvPr/>
          </p:nvCxnSpPr>
          <p:spPr>
            <a:xfrm flipV="1">
              <a:off x="2382480" y="4052520"/>
              <a:ext cx="468360" cy="104436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</p:cxnSp>
      </p:grpSp>
      <p:grpSp>
        <p:nvGrpSpPr>
          <p:cNvPr id="218" name="Groupe 10"/>
          <p:cNvGrpSpPr/>
          <p:nvPr/>
        </p:nvGrpSpPr>
        <p:grpSpPr>
          <a:xfrm>
            <a:off x="4869000" y="1619280"/>
            <a:ext cx="4152600" cy="4218120"/>
            <a:chOff x="4869000" y="1619280"/>
            <a:chExt cx="4152600" cy="4218120"/>
          </a:xfrm>
        </p:grpSpPr>
        <p:sp>
          <p:nvSpPr>
            <p:cNvPr id="219" name="ZoneTexte 6"/>
            <p:cNvSpPr/>
            <p:nvPr/>
          </p:nvSpPr>
          <p:spPr>
            <a:xfrm>
              <a:off x="4869000" y="1619280"/>
              <a:ext cx="4152600" cy="1465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2060"/>
                  </a:solidFill>
                  <a:latin typeface="Gill Sans MT"/>
                </a:rPr>
                <a:t>Elaboration d'un schéma opérationnel de substitution à double objectif :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2060"/>
                  </a:solidFill>
                  <a:latin typeface="Gill Sans MT"/>
                </a:rPr>
                <a:t>atteinte des objectifs du SAGE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2060"/>
                  </a:solidFill>
                  <a:latin typeface="Gill Sans MT"/>
                </a:rPr>
                <a:t>impact sur prix de l’eau faible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0" name="Ellipse 7"/>
            <p:cNvSpPr/>
            <p:nvPr/>
          </p:nvSpPr>
          <p:spPr>
            <a:xfrm>
              <a:off x="5424840" y="3313440"/>
              <a:ext cx="2522880" cy="2523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221" name="Connecteur droit avec flèche 9"/>
            <p:cNvCxnSpPr/>
            <p:nvPr/>
          </p:nvCxnSpPr>
          <p:spPr>
            <a:xfrm flipH="1">
              <a:off x="6849000" y="2819520"/>
              <a:ext cx="96480" cy="4942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1132" t="7513" r="4867" b="6489"/>
          <a:stretch/>
        </p:blipFill>
        <p:spPr>
          <a:xfrm>
            <a:off x="257040" y="2306520"/>
            <a:ext cx="7913880" cy="44308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104760" y="1720800"/>
            <a:ext cx="88311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ill Sans MT"/>
              </a:rPr>
              <a:t>2003 : pompage durant 1 mois à l'Oligocène (SF1 et SF2  proches Etang de la Levade) à 129 et 123 m</a:t>
            </a:r>
            <a:r>
              <a:rPr b="0" lang="fr-FR" sz="1600" spc="-1" strike="noStrike" baseline="30000">
                <a:solidFill>
                  <a:srgbClr val="333399"/>
                </a:solidFill>
                <a:latin typeface="Gill Sans MT"/>
              </a:rPr>
              <a:t>3</a:t>
            </a:r>
            <a:r>
              <a:rPr b="0" lang="fr-FR" sz="1600" spc="-1" strike="noStrike">
                <a:solidFill>
                  <a:srgbClr val="333399"/>
                </a:solidFill>
                <a:latin typeface="Gill Sans MT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ill Sans MT"/>
              </a:rPr>
              <a:t>et suivi des toutes les nappes (Eocène, Oligocène, Miocène et Plio-quaternair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117960" y="173160"/>
            <a:ext cx="60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Ressource oligocène de Sainte Hélè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étudiée par le SMEGRE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près de 2 M€ depuis 2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rcRect l="27915" t="94487" r="28635" b="0"/>
          <a:stretch/>
        </p:blipFill>
        <p:spPr>
          <a:xfrm>
            <a:off x="3360600" y="6400800"/>
            <a:ext cx="5888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3117960" y="173160"/>
            <a:ext cx="60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Ressource oligocène de Sainte Hélè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étudiée par le SMEGRE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rebuchet MS"/>
              </a:rPr>
              <a:t>près de 2 M€ depuis 2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7" name="Groupe 4"/>
          <p:cNvGrpSpPr/>
          <p:nvPr/>
        </p:nvGrpSpPr>
        <p:grpSpPr>
          <a:xfrm>
            <a:off x="233280" y="2095560"/>
            <a:ext cx="9386280" cy="4748400"/>
            <a:chOff x="233280" y="2095560"/>
            <a:chExt cx="9386280" cy="474840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 rot="1094400">
              <a:off x="5675040" y="2441520"/>
              <a:ext cx="2862360" cy="4056480"/>
            </a:xfrm>
            <a:prstGeom prst="rect">
              <a:avLst/>
            </a:prstGeom>
            <a:ln w="9360">
              <a:solidFill>
                <a:srgbClr val="bfbfbf"/>
              </a:solidFill>
              <a:miter/>
            </a:ln>
          </p:spPr>
        </p:pic>
        <p:sp>
          <p:nvSpPr>
            <p:cNvPr id="229" name="Text Box 3"/>
            <p:cNvSpPr/>
            <p:nvPr/>
          </p:nvSpPr>
          <p:spPr>
            <a:xfrm>
              <a:off x="233280" y="4928040"/>
              <a:ext cx="60566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333399"/>
                  </a:solidFill>
                  <a:latin typeface="Gill Sans MT"/>
                </a:rPr>
                <a:t>Extrait des conclusions du BRGM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333399"/>
                  </a:solidFill>
                  <a:latin typeface="Gill Sans MT"/>
                </a:rPr>
                <a:t>"Le niveau de représentation du modèle ne permet pas de vérifier l’impact éventuel de l’exploitation du champ captant sur les étangs de Lacanau et d’Hourtin …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1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333399"/>
                  </a:solidFill>
                  <a:latin typeface="Gill Sans MT"/>
                </a:rPr>
                <a:t>Néanmoins, les faibles rabattements calculés par le modèle dans le Plio-quaternaire au droit de ces zones laissent supposer que l’impact serait très limité."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230" name="Groupe 2"/>
            <p:cNvGrpSpPr/>
            <p:nvPr/>
          </p:nvGrpSpPr>
          <p:grpSpPr>
            <a:xfrm>
              <a:off x="6651000" y="4235400"/>
              <a:ext cx="2968560" cy="2508840"/>
              <a:chOff x="6651000" y="4235400"/>
              <a:chExt cx="2968560" cy="2508840"/>
            </a:xfrm>
          </p:grpSpPr>
          <p:pic>
            <p:nvPicPr>
              <p:cNvPr id="231" name="Picture 2" descr="C:\Users\bruno.degrissac\AppData\Local\Microsoft\Windows\Temporary Internet Files\Content.IE5\Q6XJAGA1\MC900234563[1].wmf"/>
              <p:cNvPicPr/>
              <p:nvPr/>
            </p:nvPicPr>
            <p:blipFill>
              <a:blip r:embed="rId2"/>
              <a:stretch/>
            </p:blipFill>
            <p:spPr>
              <a:xfrm rot="1048800">
                <a:off x="6867360" y="4573800"/>
                <a:ext cx="2535480" cy="183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Ellipse 1"/>
              <p:cNvSpPr/>
              <p:nvPr/>
            </p:nvSpPr>
            <p:spPr>
              <a:xfrm rot="1048800">
                <a:off x="7054920" y="4511160"/>
                <a:ext cx="1282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233" name="ZoneTexte 3"/>
            <p:cNvSpPr/>
            <p:nvPr/>
          </p:nvSpPr>
          <p:spPr>
            <a:xfrm rot="1080000">
              <a:off x="7066080" y="4889160"/>
              <a:ext cx="117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Juin 2012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34" name="Picture 2" descr=""/>
          <p:cNvPicPr/>
          <p:nvPr/>
        </p:nvPicPr>
        <p:blipFill>
          <a:blip r:embed="rId3"/>
          <a:srcRect l="1132" t="7513" r="4867" b="0"/>
          <a:stretch/>
        </p:blipFill>
        <p:spPr>
          <a:xfrm>
            <a:off x="233280" y="1693800"/>
            <a:ext cx="52149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4" descr=""/>
          <p:cNvPicPr/>
          <p:nvPr/>
        </p:nvPicPr>
        <p:blipFill>
          <a:blip r:embed="rId1"/>
          <a:srcRect l="4686" t="3556" r="6413" b="4813"/>
          <a:stretch/>
        </p:blipFill>
        <p:spPr>
          <a:xfrm>
            <a:off x="5556240" y="1604880"/>
            <a:ext cx="3517920" cy="4302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3132000" y="189000"/>
            <a:ext cx="60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Nouveaux statuts du SMEGRE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Arrêté préfectoral du 18 juin 201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4480" y="1644480"/>
            <a:ext cx="54417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Les mission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faciliter la gestion  équilibrée des ressources en eau souterraine et la préservation des zones humides associées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mettre en œuvre le SAGE,  accompagner la politique d'économies d'eau et poursuivre la recherche et la mobilisation de ressources de substitution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garantir la transparence dans la mise en œuvre des projets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accueillir les collectivités territoriales "AEP" afin d'élargir la gouvernance dans un esprit de solidarité des actions et de mutualisation des moye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" name="Image 13" descr=""/>
          <p:cNvPicPr/>
          <p:nvPr/>
        </p:nvPicPr>
        <p:blipFill>
          <a:blip r:embed="rId2"/>
          <a:stretch/>
        </p:blipFill>
        <p:spPr>
          <a:xfrm>
            <a:off x="1546200" y="0"/>
            <a:ext cx="1378080" cy="160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257040" y="5010120"/>
            <a:ext cx="5334120" cy="18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867280" y="5805360"/>
            <a:ext cx="3059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99"/>
                </a:solidFill>
                <a:latin typeface="Gill Sans MT"/>
              </a:rPr>
              <a:t>Conseil général, CUB  et 13 services de l'eau potable hors CUB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ans_nom"/>
          <p:cNvPicPr/>
          <p:nvPr/>
        </p:nvPicPr>
        <p:blipFill>
          <a:blip r:embed="rId1"/>
          <a:srcRect l="18650" t="4599" r="24678" b="10515"/>
          <a:stretch/>
        </p:blipFill>
        <p:spPr>
          <a:xfrm>
            <a:off x="0" y="1628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26920" y="3716280"/>
            <a:ext cx="49690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Miocène</a:t>
            </a:r>
            <a:br>
              <a:rPr sz="2000"/>
            </a:b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Oligocène</a:t>
            </a:r>
            <a:br>
              <a:rPr sz="2000"/>
            </a:b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Eocène supérieur</a:t>
            </a:r>
            <a:br>
              <a:rPr sz="2000"/>
            </a:b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Eocène inférieur à moyen</a:t>
            </a:r>
            <a:br>
              <a:rPr sz="2000"/>
            </a:b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Campano-maastrichtien (Crétacé supérieur)</a:t>
            </a:r>
            <a:br>
              <a:rPr sz="2000"/>
            </a:b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Cénomano-turonien (Crétacé supérieu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50920" y="1700280"/>
            <a:ext cx="6913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Territoire du SAGE : 10 000 Km²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Population : 1 475 000 habita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Gill Sans MT"/>
              </a:rPr>
              <a:t>Croissance démographique : +1,1% par 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132000" y="0"/>
            <a:ext cx="6012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Le périmètre du S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" name="Picture 7" descr="LogoTypoRVB"/>
          <p:cNvPicPr/>
          <p:nvPr/>
        </p:nvPicPr>
        <p:blipFill>
          <a:blip r:embed="rId2"/>
          <a:stretch/>
        </p:blipFill>
        <p:spPr>
          <a:xfrm>
            <a:off x="0" y="5884920"/>
            <a:ext cx="83520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"/>
          <p:cNvPicPr/>
          <p:nvPr/>
        </p:nvPicPr>
        <p:blipFill>
          <a:blip r:embed="rId3"/>
          <a:stretch/>
        </p:blipFill>
        <p:spPr>
          <a:xfrm>
            <a:off x="5796000" y="2781360"/>
            <a:ext cx="3195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3132000" y="189000"/>
            <a:ext cx="60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Les constats du S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4120" y="2017800"/>
            <a:ext cx="3722760" cy="472752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15"/>
          <p:cNvSpPr/>
          <p:nvPr/>
        </p:nvSpPr>
        <p:spPr>
          <a:xfrm>
            <a:off x="130320" y="1647720"/>
            <a:ext cx="42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Gill Sans MT"/>
              </a:rPr>
              <a:t>Des bilans déséquilibrés à grande éch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ZoneTexte 16"/>
          <p:cNvSpPr/>
          <p:nvPr/>
        </p:nvSpPr>
        <p:spPr>
          <a:xfrm>
            <a:off x="4686480" y="167004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Gill Sans MT"/>
              </a:rPr>
              <a:t>Des risques locau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4876920" y="2144880"/>
            <a:ext cx="3851280" cy="4319280"/>
            <a:chOff x="4876920" y="2144880"/>
            <a:chExt cx="3851280" cy="4319280"/>
          </a:xfrm>
        </p:grpSpPr>
        <p:pic>
          <p:nvPicPr>
            <p:cNvPr id="69" name="Picture 15" descr="Image 3"/>
            <p:cNvPicPr/>
            <p:nvPr/>
          </p:nvPicPr>
          <p:blipFill>
            <a:blip r:embed="rId2"/>
            <a:stretch/>
          </p:blipFill>
          <p:spPr>
            <a:xfrm>
              <a:off x="4876920" y="2144880"/>
              <a:ext cx="3851280" cy="43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16"/>
            <p:cNvSpPr/>
            <p:nvPr/>
          </p:nvSpPr>
          <p:spPr>
            <a:xfrm flipH="1">
              <a:off x="5839200" y="2466720"/>
              <a:ext cx="6750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 flipH="1">
              <a:off x="6758280" y="3471120"/>
              <a:ext cx="981000" cy="16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7103880" y="3079440"/>
              <a:ext cx="157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Gill Sans MT"/>
                </a:rPr>
                <a:t>Risque de dénoyage Oligocène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6535800" y="2278800"/>
              <a:ext cx="193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Gill Sans MT"/>
                </a:rPr>
                <a:t>Risque de salinisation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Gill Sans MT"/>
                </a:rPr>
                <a:t>Éocène inférieur à moyen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6" descr=""/>
          <p:cNvPicPr/>
          <p:nvPr/>
        </p:nvPicPr>
        <p:blipFill>
          <a:blip r:embed="rId1"/>
          <a:stretch/>
        </p:blipFill>
        <p:spPr>
          <a:xfrm>
            <a:off x="0" y="1582560"/>
            <a:ext cx="8767800" cy="4507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3132000" y="189000"/>
            <a:ext cx="60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Les usages concerné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" name="Picture 14" descr="LogoTypoRVB"/>
          <p:cNvPicPr/>
          <p:nvPr/>
        </p:nvPicPr>
        <p:blipFill>
          <a:blip r:embed="rId2"/>
          <a:stretch/>
        </p:blipFill>
        <p:spPr>
          <a:xfrm>
            <a:off x="0" y="5877000"/>
            <a:ext cx="835200" cy="973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870520" y="4268880"/>
            <a:ext cx="3178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En Gironde, les nappes profondes fournissent 97% de l'eau potabl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ill Sans MT"/>
              </a:rPr>
              <a:t>L'enjeu est la pérennisation d'un mode d'approvisionnement en eau potable qui garantit à moindre coût la sécurité sanitair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357200" y="60404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Origine  et principaux usages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des 300 millions de mètres cube d'eau prélevés chaque année en Girond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ZoneTexte 1"/>
          <p:cNvSpPr/>
          <p:nvPr/>
        </p:nvSpPr>
        <p:spPr>
          <a:xfrm>
            <a:off x="1828800" y="3513240"/>
            <a:ext cx="155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Gill Sans MT"/>
              </a:rPr>
              <a:t>AEP 3 %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Gill Sans MT"/>
              </a:rPr>
              <a:t>Industrie 27 %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Gill Sans MT"/>
              </a:rPr>
              <a:t>Agriculture 70 %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1844640"/>
            <a:ext cx="871380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Pour restaurer le bon état quantitatif,  il est nécessaire de réduire les prélèvements dans les Unités de gestion déficitaires et dans les Zones à risque ce qui passe par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1440" indent="-93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Gill Sans MT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en priorité une optimisation des usages (économies d'eau et maîtrise des consommations) 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1440" indent="-93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Gill Sans MT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une substitution de ressource pour les prélèvements résiduels en excès dans les Unités de gestion déficitaires 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1440" indent="-9360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Gill Sans MT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une diminution des prélèvements dans les Zones à risques, par redistribution spatiale ou par substitu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132000" y="549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Les orientations de 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110040" y="2062080"/>
            <a:ext cx="720720" cy="4608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10040" y="3718080"/>
            <a:ext cx="720720" cy="295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Sous-titre 2"/>
          <p:cNvSpPr/>
          <p:nvPr/>
        </p:nvSpPr>
        <p:spPr>
          <a:xfrm>
            <a:off x="4478400" y="5734080"/>
            <a:ext cx="43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Trebuchet MS"/>
              </a:rPr>
              <a:t>L'effet cumulé des économies d'eau et des substitutions doit permettre d'atteindre les objectifs du SAG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10040" y="5157720"/>
            <a:ext cx="72072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1917720"/>
            <a:ext cx="288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Cumul des autoris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3573360"/>
            <a:ext cx="288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Volume prélevé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57320" y="5013360"/>
            <a:ext cx="295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Volume maximum prélev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118040" y="2062080"/>
            <a:ext cx="0" cy="165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118040" y="2709720"/>
            <a:ext cx="482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1. Révision par l'Etat des autorisations de prélèveme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110040" y="3718080"/>
            <a:ext cx="7207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118040" y="371808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4189320" y="3849840"/>
            <a:ext cx="46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2. Politique d'économie d'eau et de maîtrise des consomm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3110040" y="4438800"/>
            <a:ext cx="72072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4118040" y="44388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189320" y="4654440"/>
            <a:ext cx="460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Trebuchet MS"/>
              </a:rPr>
              <a:t>3. Des substitutions de ressour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Sous-titre 2"/>
          <p:cNvSpPr/>
          <p:nvPr/>
        </p:nvSpPr>
        <p:spPr>
          <a:xfrm>
            <a:off x="4549680" y="1630440"/>
            <a:ext cx="432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33cc"/>
                </a:solidFill>
                <a:uFillTx/>
                <a:latin typeface="Trebuchet MS"/>
              </a:rPr>
              <a:t>Moyens prévus par le S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Line 18"/>
          <p:cNvSpPr/>
          <p:nvPr/>
        </p:nvSpPr>
        <p:spPr>
          <a:xfrm flipH="1">
            <a:off x="228600" y="443880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949320" y="4581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949320" y="40784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447840" y="4078440"/>
            <a:ext cx="50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3132000" y="549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Trebuchet MS"/>
              </a:rPr>
              <a:t>Les orientations de 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3" name="Groupe 34"/>
          <p:cNvGrpSpPr/>
          <p:nvPr/>
        </p:nvGrpSpPr>
        <p:grpSpPr>
          <a:xfrm>
            <a:off x="4189320" y="2791440"/>
            <a:ext cx="5617800" cy="2222280"/>
            <a:chOff x="4189320" y="2791440"/>
            <a:chExt cx="5617800" cy="2222280"/>
          </a:xfrm>
        </p:grpSpPr>
        <p:sp>
          <p:nvSpPr>
            <p:cNvPr id="104" name="Ellipse 1"/>
            <p:cNvSpPr/>
            <p:nvPr/>
          </p:nvSpPr>
          <p:spPr>
            <a:xfrm>
              <a:off x="4189320" y="3492360"/>
              <a:ext cx="4650480" cy="8748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 rot="2371800">
              <a:off x="6920640" y="3766320"/>
              <a:ext cx="3161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Trebuchet MS"/>
                </a:rPr>
                <a:t>EN COURS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06" name="Groupe 2"/>
          <p:cNvGrpSpPr/>
          <p:nvPr/>
        </p:nvGrpSpPr>
        <p:grpSpPr>
          <a:xfrm>
            <a:off x="4189320" y="1685160"/>
            <a:ext cx="5618520" cy="2164320"/>
            <a:chOff x="4189320" y="1685160"/>
            <a:chExt cx="5618520" cy="2164320"/>
          </a:xfrm>
        </p:grpSpPr>
        <p:sp>
          <p:nvSpPr>
            <p:cNvPr id="107" name="Ellipse 1"/>
            <p:cNvSpPr/>
            <p:nvPr/>
          </p:nvSpPr>
          <p:spPr>
            <a:xfrm>
              <a:off x="4189320" y="2324160"/>
              <a:ext cx="4683240" cy="99216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 rot="2196600">
              <a:off x="6864480" y="2587320"/>
              <a:ext cx="314604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Trebuchet MS"/>
                </a:rPr>
                <a:t>FAIT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09" name="Groupe 3"/>
          <p:cNvGrpSpPr/>
          <p:nvPr/>
        </p:nvGrpSpPr>
        <p:grpSpPr>
          <a:xfrm>
            <a:off x="4189320" y="4535640"/>
            <a:ext cx="4754520" cy="955440"/>
            <a:chOff x="4189320" y="4535640"/>
            <a:chExt cx="4754520" cy="955440"/>
          </a:xfrm>
        </p:grpSpPr>
        <p:sp>
          <p:nvSpPr>
            <p:cNvPr id="110" name="Ellipse 40"/>
            <p:cNvSpPr/>
            <p:nvPr/>
          </p:nvSpPr>
          <p:spPr>
            <a:xfrm>
              <a:off x="4204440" y="4535640"/>
              <a:ext cx="4650840" cy="6685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189320" y="5248800"/>
              <a:ext cx="475452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marL="209160" indent="-20916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Trebuchet MS"/>
                </a:rPr>
                <a:t>Qui, où, avec quelle ressource ?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47880" y="2052720"/>
            <a:ext cx="8045280" cy="4805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3132000" y="28260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Optimisation des usages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résultats obtenus depuis 200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96840" y="1592280"/>
            <a:ext cx="31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Gill Sans MT"/>
              </a:rPr>
              <a:t>Tous usages confond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Connecteur droit 2"/>
          <p:cNvSpPr/>
          <p:nvPr/>
        </p:nvSpPr>
        <p:spPr>
          <a:xfrm>
            <a:off x="6765840" y="2432160"/>
            <a:ext cx="0" cy="407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816120" y="1646280"/>
            <a:ext cx="7511760" cy="3938400"/>
          </a:xfrm>
          <a:prstGeom prst="rect">
            <a:avLst/>
          </a:prstGeom>
          <a:ln w="0">
            <a:noFill/>
          </a:ln>
        </p:spPr>
      </p:pic>
      <p:sp>
        <p:nvSpPr>
          <p:cNvPr id="117" name="Line 16"/>
          <p:cNvSpPr/>
          <p:nvPr/>
        </p:nvSpPr>
        <p:spPr>
          <a:xfrm>
            <a:off x="5877000" y="1773360"/>
            <a:ext cx="0" cy="331128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82520" y="553392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ill Sans MT"/>
              </a:rPr>
              <a:t>Pour l'AEP, l'efficacité de la politique d'optimisation des usages est évaluée à partir du poids en prélèvement d'un habitant toutes ressources confond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ill Sans MT"/>
              </a:rPr>
              <a:t>Cet indicateur diminue depuis 2003 (+ 150 000 habitants) et ses valeurs sur les quatre dernières années sont les plus faibles depuis 1985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3"/>
          <p:cNvSpPr/>
          <p:nvPr/>
        </p:nvSpPr>
        <p:spPr>
          <a:xfrm rot="16200000">
            <a:off x="-1323720" y="341568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ill Sans MT"/>
              </a:rPr>
              <a:t>Prélevé (pas consommé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132000" y="106200"/>
            <a:ext cx="601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Optimisation des usages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Gill Sans MT"/>
              </a:rPr>
              <a:t>résultats obtenus depuis 200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Gill Sans MT"/>
              </a:rPr>
              <a:t>Empreinte d'un habitant sur la ressource pour l'AE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1" name="Groupe 5"/>
          <p:cNvGrpSpPr/>
          <p:nvPr/>
        </p:nvGrpSpPr>
        <p:grpSpPr>
          <a:xfrm>
            <a:off x="2181240" y="2549520"/>
            <a:ext cx="6778440" cy="2823480"/>
            <a:chOff x="2181240" y="2549520"/>
            <a:chExt cx="6778440" cy="2823480"/>
          </a:xfrm>
        </p:grpSpPr>
        <p:sp>
          <p:nvSpPr>
            <p:cNvPr id="122" name="ZoneTexte 1"/>
            <p:cNvSpPr/>
            <p:nvPr/>
          </p:nvSpPr>
          <p:spPr>
            <a:xfrm>
              <a:off x="2181240" y="3754440"/>
              <a:ext cx="6778440" cy="16185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2060"/>
                  </a:solidFill>
                  <a:latin typeface="Gill Sans MT"/>
                </a:rPr>
                <a:t>Ce besoin en prélèvement par habitant combiné à une hypothèse de croissance démographique donne le besoin en substitution. Pour la zone centre du SAGE :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2060"/>
                  </a:solidFill>
                  <a:latin typeface="Gill Sans MT"/>
                </a:rPr>
                <a:t>20 Mm</a:t>
              </a:r>
              <a:r>
                <a:rPr b="0" lang="fr-FR" sz="2000" spc="-1" strike="noStrike" baseline="30000">
                  <a:solidFill>
                    <a:srgbClr val="002060"/>
                  </a:solidFill>
                  <a:latin typeface="Gill Sans MT"/>
                </a:rPr>
                <a:t>3</a:t>
              </a:r>
              <a:r>
                <a:rPr b="0" lang="fr-FR" sz="2000" spc="-1" strike="noStrike">
                  <a:solidFill>
                    <a:srgbClr val="002060"/>
                  </a:solidFill>
                  <a:latin typeface="Gill Sans MT"/>
                </a:rPr>
                <a:t>/an à 2021 selon le scénario réaliste mais sécuritaire</a:t>
              </a:r>
              <a:endParaRPr b="0" lang="en-US" sz="2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123" name="Connecteur droit avec flèche 3"/>
            <p:cNvCxnSpPr>
              <a:stCxn id="122" idx="0"/>
            </p:cNvCxnSpPr>
            <p:nvPr/>
          </p:nvCxnSpPr>
          <p:spPr>
            <a:xfrm flipV="1">
              <a:off x="5569920" y="2891880"/>
              <a:ext cx="2273400" cy="862560"/>
            </a:xfrm>
            <a:prstGeom prst="straightConnector1">
              <a:avLst/>
            </a:prstGeom>
            <a:ln w="3168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124" name="Ellipse 4"/>
            <p:cNvSpPr/>
            <p:nvPr/>
          </p:nvSpPr>
          <p:spPr>
            <a:xfrm>
              <a:off x="7827480" y="2549520"/>
              <a:ext cx="501120" cy="501120"/>
            </a:xfrm>
            <a:prstGeom prst="ellipse">
              <a:avLst/>
            </a:prstGeom>
            <a:noFill/>
            <a:ln w="316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9:13Z</dcterms:created>
  <dc:creator>frederic.lapuyade</dc:creator>
  <dc:description/>
  <dc:language>en-US</dc:language>
  <cp:lastModifiedBy>Bruno de Grissac</cp:lastModifiedBy>
  <cp:lastPrinted>2013-06-18T10:35:15Z</cp:lastPrinted>
  <dcterms:modified xsi:type="dcterms:W3CDTF">2014-12-12T10:20:35Z</dcterms:modified>
  <cp:revision>414</cp:revision>
  <dc:subject/>
  <dc:title>Diapositive 1</dc:title>
</cp:coreProperties>
</file>